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6720" cy="434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63520" y="0"/>
            <a:ext cx="3008520" cy="434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93FCC26D-DFD0-43CD-8910-3C9FACB3575D}" type="datetime">
              <a:rPr b="0" lang="en-US" sz="11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17440" y="652320"/>
            <a:ext cx="463896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29880" y="4347720"/>
            <a:ext cx="5010120" cy="4057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8695800"/>
            <a:ext cx="3006720" cy="435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63520" y="8695800"/>
            <a:ext cx="3008520" cy="435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ED35E5C7-BE5F-41B5-B9B9-CAD503B959AB}" type="slidenum"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3863520" y="8695800"/>
            <a:ext cx="3008520" cy="435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6F3337E5-B1C7-4169-919F-C2A75CC3CEE9}" type="slidenum"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8695800"/>
            <a:ext cx="3006720" cy="435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0" y="0"/>
            <a:ext cx="3006720" cy="434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63520" y="8695800"/>
            <a:ext cx="3008520" cy="435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A398FD47-2CFC-423B-B9F3-F350EAEC1204}" type="slidenum"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0" y="8695800"/>
            <a:ext cx="3006720" cy="435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0" y="0"/>
            <a:ext cx="3006720" cy="434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in this correctly, remember this, aspect, pointc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in this correctly, remember this, aspect, pointc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in this correctly, remember this, aspect, pointc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3863520" y="8695800"/>
            <a:ext cx="3008520" cy="435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F968ACA3-748C-45F3-A16B-32BFC0413835}" type="slidenum"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0" y="8695800"/>
            <a:ext cx="3006720" cy="435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0" y="0"/>
            <a:ext cx="3006720" cy="434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19240" y="65232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30240" y="4347720"/>
            <a:ext cx="5006880" cy="4056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ew of what’s to come wrt sites. How sites are desig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more verb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3863520" y="8695800"/>
            <a:ext cx="3008520" cy="435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CFE52014-C95D-4CE2-9F67-7BB67B4DC480}" type="slidenum"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0" y="8695800"/>
            <a:ext cx="3006720" cy="435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0" y="0"/>
            <a:ext cx="3006720" cy="434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910A-0A84-4CF3-935C-0B1A512A4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D4E7-C1CC-460D-BBEF-EE704D738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A925-6D4A-4657-A235-FFA517562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EEDA-5F36-43E8-98FA-0F066B7EF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910DD-A938-4B1C-8EFF-96E5D62BC8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2944B-2993-4CDC-AA1B-B75853B2B1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68DA9-F6D5-402F-A1DF-553ED6A404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4F760-0527-4A0B-9916-B34278C6F6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833D0-ACD5-4605-94EB-BA56986247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E5E38-DA76-4440-B8EF-547DFD3847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19474-0DFD-42E6-96C2-F14E3228CA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1D8C-501F-4120-A0DC-8982AFFF1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B8B21-8B70-4A1F-9257-90390F59C4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908FB-C499-46D2-814F-A37574EDA4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9A653-29ED-4FA0-9527-4EAAB5C0BF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8E8B5-73A2-4760-9D65-210DF9CFA1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73711-415C-4548-883D-DEDA191B8D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7EF7-B52D-4971-A173-FF1D6FA21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32AF-37FA-4E99-90C9-0EAEAC7B5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8EE3-2233-4FDA-8782-5C15AD5CF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968A-6EBB-4D64-A36E-AD2DC4892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E4F5-7D1B-4131-AE83-B233B0425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8B41-EB8C-4DE7-981C-9CCC3DFE5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3B690-243B-4D08-91B0-F3BFAB818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320"/>
            <a:ext cx="457200" cy="683568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0306-E370-4262-883C-844D27C3F9D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E978-9695-4E60-8874-C3F6D2C5862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 is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new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language mech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arity techn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ion of concerns techn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code, design, software quality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with older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ve previously unsolved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 contribution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ar crosscutting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hierarchical (de)com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al crosscu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4AF8-55B3-48DB-BF55-63C575F412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2380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returning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55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6C17-CBE3-4002-8791-135DDCC87890}" type="slidenum">
              <a:t>10</a:t>
            </a:fld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33DB-77F6-472B-947F-C8A58299D2A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you would have to write without AspectJ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 calls are tangled through the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going on” is less explic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6480" y="1514520"/>
            <a:ext cx="3015360" cy="365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moveBy(int dx, int dy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1.moveBy(dx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2.moveBy(d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DC9D-CD26-4C70-99DC-AFFB9ED8876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25800" y="72864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ut across multiple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3800" y="2960640"/>
            <a:ext cx="511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BB1A-52F5-4A37-8E3A-3B1CEA33CBF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25800" y="72864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use interface sign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0200" y="2960640"/>
            <a:ext cx="67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303A-CB0F-4702-917F-28735411916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291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95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B1FE-914E-405D-9F3C-E1A0BF580EF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values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9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304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/>
          <p:cNvSpPr/>
          <p:nvPr/>
        </p:nvSpPr>
        <p:spPr>
          <a:xfrm>
            <a:off x="5867280" y="129528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s parameter mechanism  to get values at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B723-8415-4775-9B92-468312A9E45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7040" y="1514520"/>
            <a:ext cx="2070720" cy="5266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1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2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getX() + dx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getY() +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7971-8C74-4BF8-9B2D-BA629521F45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7040" y="1514520"/>
            <a:ext cx="2070720" cy="5266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1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2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getX() + dx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getY() +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713A-779E-48C4-AE36-E6A192696A1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7040" y="1514520"/>
            <a:ext cx="2070720" cy="5266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1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2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getX() + dx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getY() +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467E-2692-46FA-9052-BFEEFF47941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packag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100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112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113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118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121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27" name=""/>
            <p:cNvCxnSpPr>
              <a:stCxn id="128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0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132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128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139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143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674A-D153-4F23-B7EE-E9B0996D5A9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27040" y="1514520"/>
            <a:ext cx="2070720" cy="5266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1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2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getX() + dx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getY() +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display updat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3364-57F9-4308-BB9F-482865B8DC8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7040" y="1514520"/>
            <a:ext cx="2070720" cy="4658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1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2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getX() + dx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getY() +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DEDE-6602-4084-8192-A311D3CD80B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7040" y="1514520"/>
            <a:ext cx="2070720" cy="4658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1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2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getX() + dx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getY() +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799C-191B-4585-9340-64E3DEF6092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7040" y="1514520"/>
            <a:ext cx="2070720" cy="4658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1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2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getX() + dx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getY() +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75DF-84D4-43B2-B1FE-01E21F48027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581280" y="4625640"/>
            <a:ext cx="54864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of modular crosscu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7040" y="1514520"/>
            <a:ext cx="2070720" cy="4658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1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2.moveBy(dx,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dy)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X(getX() + dx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etY(getY() + dy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6DE6-5F0E-41C6-9278-AAB5E62F8CD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37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structure cuts acros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ss structu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‘views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s 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e)com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39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4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45" name=""/>
            <p:cNvCxnSpPr>
              <a:stCxn id="346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47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48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49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50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46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57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61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5FA2-96FF-47A5-B180-D9CBAE75A5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e-condi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72864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before 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36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"/>
          <p:cNvSpPr/>
          <p:nvPr/>
        </p:nvSpPr>
        <p:spPr>
          <a:xfrm>
            <a:off x="507960" y="1503360"/>
            <a:ext cx="7010280" cy="5031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BoundsPreCondi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ewX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&amp;&amp; args(new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ert(newX &gt;= MIN_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ert(newX &lt;= MAX_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ew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&amp;&amp; args(new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ert(newY &gt;= MIN_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ert(newY &lt;= MAX_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ssert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boolea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v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 !v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untimeExcepti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2646360"/>
            <a:ext cx="2971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what follows the ‘:’ is always a pointcut – primitive or user-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2265480"/>
            <a:ext cx="2398680" cy="637920"/>
          </a:xfrm>
          <a:custGeom>
            <a:avLst/>
            <a:gdLst/>
            <a:ahLst/>
            <a:rect l="l" t="t" r="r" b="b"/>
            <a:pathLst>
              <a:path w="690" h="140">
                <a:moveTo>
                  <a:pt x="690" y="14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3159000"/>
            <a:ext cx="2374920" cy="401760"/>
          </a:xfrm>
          <a:custGeom>
            <a:avLst/>
            <a:gdLst/>
            <a:ahLst/>
            <a:rect l="l" t="t" r="r" b="b"/>
            <a:pathLst>
              <a:path w="348" h="337">
                <a:moveTo>
                  <a:pt x="348" y="0"/>
                </a:moveTo>
                <a:lnTo>
                  <a:pt x="0" y="337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813720" y="6227640"/>
            <a:ext cx="2286000" cy="592200"/>
            <a:chOff x="6813720" y="6227640"/>
            <a:chExt cx="2286000" cy="592200"/>
          </a:xfrm>
        </p:grpSpPr>
        <p:sp>
          <p:nvSpPr>
            <p:cNvPr id="375" name=""/>
            <p:cNvSpPr/>
            <p:nvPr/>
          </p:nvSpPr>
          <p:spPr>
            <a:xfrm>
              <a:off x="6813720" y="627192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6889680" y="622764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85E2-8DFA-4FEE-928E-F5A8DE1E370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st-condi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2120" y="1506600"/>
            <a:ext cx="854748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BoundsPostCondi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oint p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ewX)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&amp;&amp; target(p) &amp;&amp; args(new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ert(p.getX() == new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oint p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ewY)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&amp;&amp; target(p) &amp;&amp; args(new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ert(p.getY() == new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ssert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boolea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v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 !v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untimeExcepti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72864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fter 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38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E0A3-A64E-4975-BF60-1C229D2FC37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71600" y="4800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5720" y="14986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ublicInterfac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throwing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atly captures public interface of my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2304-18A8-440A-B129-BF268E00CA4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fine-grained protec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2840" y="1506600"/>
            <a:ext cx="8136000" cy="5031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  makeLine(Line p1, Line p2) {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..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makePoint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   {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actoryEnforc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llegalNewFigElt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Point.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..)) || call(Line.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..)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 !withincode(* Figure.make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: illegalNewFigElt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rror("Use factory method instead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39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"/>
          <p:cNvSpPr/>
          <p:nvPr/>
        </p:nvSpPr>
        <p:spPr>
          <a:xfrm>
            <a:off x="4114800" y="2743200"/>
            <a:ext cx="411480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want to ensure that any creation of figure elements goes through the factory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72864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untim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01AA-CD61-441F-9AC2-E3E1365E455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150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DC49B-B21D-41FF-88CD-9C8FB2F1E54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fine-grained protec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840" y="1506600"/>
            <a:ext cx="8136000" cy="5031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  makeLine(Line p1, Line p2) {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..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makePoint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   {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actoryEnforc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llegalNewFigElt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FigureElement+.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..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 !withincode(* Figure.make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decla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: illegalNewFigElt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Use factory method instead.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39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"/>
          <p:cNvSpPr/>
          <p:nvPr/>
        </p:nvSpPr>
        <p:spPr>
          <a:xfrm>
            <a:off x="5715000" y="5334120"/>
            <a:ext cx="32004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pecial static advice only for static pointc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72864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mpile-tim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2743200"/>
            <a:ext cx="411480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want to ensure that any creation of figure elements goes through the factory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CF1C-8790-4248-92BD-42DB330CA29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fine-grained protec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4280" y="1506600"/>
            <a:ext cx="7587360" cy="4483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static 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terEnforc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decla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rror: set(Point Line.*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withincode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.setP*(Poin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Use setter method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, even inside Line 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40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"/>
          <p:cNvSpPr/>
          <p:nvPr/>
        </p:nvSpPr>
        <p:spPr>
          <a:xfrm>
            <a:off x="3505320" y="72864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static inner a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CA68-3798-4994-933D-E43BF325A4D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10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17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23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39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3377-7B62-47FD-98D4-B6687440EAC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rol flow pointcu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2120" y="1447920"/>
            <a:ext cx="761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flow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ointcut design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join points within the dynamic control flow of any join point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intcut desig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flowbelow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ointcut design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join points within the dynamic control flow below any join point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intcut desig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1C99-7E18-4312-9B87-25FFF2C5AC4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only top-level mov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459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0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1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462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3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4" name=""/>
          <p:cNvSpPr/>
          <p:nvPr/>
        </p:nvSpPr>
        <p:spPr>
          <a:xfrm>
            <a:off x="516240" y="1868400"/>
            <a:ext cx="772452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e) &amp;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cut topLevelMove(FigureElement fe)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e(fe) &amp;&amp; !cflowbelow(move(FigureElement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 returning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813720" y="6227640"/>
            <a:ext cx="2286000" cy="592200"/>
            <a:chOff x="6813720" y="6227640"/>
            <a:chExt cx="2286000" cy="592200"/>
          </a:xfrm>
        </p:grpSpPr>
        <p:sp>
          <p:nvSpPr>
            <p:cNvPr id="466" name=""/>
            <p:cNvSpPr/>
            <p:nvPr/>
          </p:nvSpPr>
          <p:spPr>
            <a:xfrm>
              <a:off x="6813720" y="627192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6889680" y="622764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A576-5424-458E-838D-3ACDDC9279D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572000" y="2971800"/>
            <a:ext cx="2743200" cy="213372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3059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classic crosscu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473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474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477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480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483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486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487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490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493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496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497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500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503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509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"/>
          <p:cNvSpPr/>
          <p:nvPr/>
        </p:nvSpPr>
        <p:spPr>
          <a:xfrm>
            <a:off x="6400800" y="18288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or u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dynamic scoping, ThreadLocal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 vs. static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2AC8-EA83-474F-94F3-5B75B22B74F5}" type="slidenum">
              <a:t>35</a:t>
            </a:fld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ormhole patter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526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527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530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533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536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539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540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543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546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549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557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567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568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571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574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577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580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0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E974-DE1E-44CF-B0EC-0BC322536A61}" type="slidenum">
              <a:t>3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ormhole patter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543720" y="3276720"/>
            <a:ext cx="2463840" cy="2284200"/>
            <a:chOff x="6543720" y="3276720"/>
            <a:chExt cx="2463840" cy="2284200"/>
          </a:xfrm>
        </p:grpSpPr>
        <p:sp>
          <p:nvSpPr>
            <p:cNvPr id="593" name=""/>
            <p:cNvSpPr/>
            <p:nvPr/>
          </p:nvSpPr>
          <p:spPr>
            <a:xfrm>
              <a:off x="6543720" y="3276720"/>
              <a:ext cx="24606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6842160" y="4162320"/>
            <a:ext cx="76320" cy="763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51760" y="3740040"/>
            <a:ext cx="76320" cy="76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0" y="3733920"/>
            <a:ext cx="76320" cy="759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43240" y="1571760"/>
            <a:ext cx="6521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s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C70D-7DDF-4B25-B476-90149D4D362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ormhole patter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6629400" y="3276720"/>
            <a:ext cx="2386080" cy="2284200"/>
            <a:chOff x="6629400" y="3276720"/>
            <a:chExt cx="2386080" cy="2284200"/>
          </a:xfrm>
        </p:grpSpPr>
        <p:sp>
          <p:nvSpPr>
            <p:cNvPr id="626" name=""/>
            <p:cNvSpPr/>
            <p:nvPr/>
          </p:nvSpPr>
          <p:spPr>
            <a:xfrm>
              <a:off x="732636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628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"/>
          <p:cNvSpPr/>
          <p:nvPr/>
        </p:nvSpPr>
        <p:spPr>
          <a:xfrm>
            <a:off x="7772400" y="5035680"/>
            <a:ext cx="76320" cy="759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250120" y="5035680"/>
            <a:ext cx="76320" cy="759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696160" y="5043600"/>
            <a:ext cx="76320" cy="759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657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543240" y="1571760"/>
            <a:ext cx="6520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pointcut invocations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this(c) &amp;&amp; call(void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s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rget(w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er.doTask(Task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8775-DB7F-4561-983C-93A75C683E1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543240" y="1571760"/>
            <a:ext cx="6520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pointcut invocations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this(c) &amp;&amp; call(void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pointcut workPoints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target(w) &amp;&amp; call(void Worker.doTask(Task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s(c)) &amp;&amp; workPoints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ormhole patter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6543720" y="3276720"/>
            <a:ext cx="2463840" cy="2284200"/>
            <a:chOff x="6543720" y="3276720"/>
            <a:chExt cx="2463840" cy="2284200"/>
          </a:xfrm>
        </p:grpSpPr>
        <p:sp>
          <p:nvSpPr>
            <p:cNvPr id="663" name=""/>
            <p:cNvSpPr/>
            <p:nvPr/>
          </p:nvSpPr>
          <p:spPr>
            <a:xfrm>
              <a:off x="6543720" y="3276720"/>
              <a:ext cx="24606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665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6858000" y="3733920"/>
            <a:ext cx="76320" cy="759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7783200" y="3733920"/>
            <a:ext cx="989280" cy="1403280"/>
            <a:chOff x="7783200" y="3733920"/>
            <a:chExt cx="989280" cy="1403280"/>
          </a:xfrm>
        </p:grpSpPr>
        <p:sp>
          <p:nvSpPr>
            <p:cNvPr id="692" name=""/>
            <p:cNvSpPr/>
            <p:nvPr/>
          </p:nvSpPr>
          <p:spPr>
            <a:xfrm>
              <a:off x="8061480" y="3733920"/>
              <a:ext cx="7596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8224200" y="3897360"/>
              <a:ext cx="74520" cy="74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8285040" y="3903840"/>
              <a:ext cx="74880" cy="74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8145360" y="4113360"/>
              <a:ext cx="74880" cy="74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8151120" y="4205160"/>
              <a:ext cx="74520" cy="74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8049600" y="4405320"/>
              <a:ext cx="74520" cy="74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8211960" y="4707000"/>
              <a:ext cx="74880" cy="74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8250120" y="5049720"/>
              <a:ext cx="74880" cy="74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782840" y="5062680"/>
              <a:ext cx="74520" cy="74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8021520" y="4525920"/>
              <a:ext cx="74880" cy="74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8259120" y="4821120"/>
              <a:ext cx="74520" cy="74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8325720" y="4110120"/>
              <a:ext cx="74520" cy="74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8357400" y="4189320"/>
              <a:ext cx="74520" cy="74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8421120" y="4417920"/>
              <a:ext cx="74520" cy="74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8436960" y="4506840"/>
              <a:ext cx="74520" cy="74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12000" y="3657600"/>
            <a:ext cx="1860480" cy="1461960"/>
            <a:chOff x="6912000" y="3657600"/>
            <a:chExt cx="1860480" cy="1461960"/>
          </a:xfrm>
        </p:grpSpPr>
        <p:grpSp>
          <p:nvGrpSpPr>
            <p:cNvPr id="709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710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7696080" y="4815000"/>
              <a:ext cx="1076400" cy="304560"/>
              <a:chOff x="7696080" y="4815000"/>
              <a:chExt cx="1076400" cy="304560"/>
            </a:xfrm>
          </p:grpSpPr>
          <p:sp>
            <p:nvSpPr>
              <p:cNvPr id="713" name=""/>
              <p:cNvSpPr/>
              <p:nvPr/>
            </p:nvSpPr>
            <p:spPr>
              <a:xfrm>
                <a:off x="7772400" y="5035680"/>
                <a:ext cx="76320" cy="75960"/>
              </a:xfrm>
              <a:prstGeom prst="ellipse">
                <a:avLst/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250120" y="5035680"/>
                <a:ext cx="76320" cy="75960"/>
              </a:xfrm>
              <a:prstGeom prst="ellipse">
                <a:avLst/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696160" y="5043600"/>
                <a:ext cx="76320" cy="75960"/>
              </a:xfrm>
              <a:prstGeom prst="ellipse">
                <a:avLst/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050320" y="4816440"/>
                <a:ext cx="144360" cy="7164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408880" y="4815000"/>
                <a:ext cx="144720" cy="7308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96080" y="4816440"/>
                <a:ext cx="144720" cy="7164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7553000">
                <a:off x="7719480" y="4857840"/>
                <a:ext cx="74880" cy="5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4945200">
                <a:off x="8078400" y="4871880"/>
                <a:ext cx="74520" cy="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0700000">
                <a:off x="8469000" y="4865400"/>
                <a:ext cx="4428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7280" y="4916880"/>
                <a:ext cx="12960" cy="1022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116920" y="4890960"/>
                <a:ext cx="74520" cy="123840"/>
              </a:xfrm>
              <a:custGeom>
                <a:avLst/>
                <a:gdLst/>
                <a:ahLst/>
                <a:rect l="l" t="t" r="r" b="b"/>
                <a:pathLst>
                  <a:path w="10" h="210">
                    <a:moveTo>
                      <a:pt x="0" y="0"/>
                    </a:moveTo>
                    <a:lnTo>
                      <a:pt x="10" y="21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488440" y="4896000"/>
                <a:ext cx="48960" cy="133200"/>
              </a:xfrm>
              <a:custGeom>
                <a:avLst/>
                <a:gdLst/>
                <a:ahLst/>
                <a:rect l="l" t="t" r="r" b="b"/>
                <a:pathLst>
                  <a:path w="98" h="201">
                    <a:moveTo>
                      <a:pt x="0" y="0"/>
                    </a:moveTo>
                    <a:lnTo>
                      <a:pt x="98" y="20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41D6E-B9BE-4B9B-85DA-7F1E13439018}" type="slidenum">
              <a:t>39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63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9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72864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ontrol flo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6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91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6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594D8-8381-4DCC-933D-0944ADA8B0D8}" type="slidenum">
              <a:t>4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548280" y="1571760"/>
            <a:ext cx="664236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abstract aspect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pointcut invocations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this(c) &amp;&amp; call(void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pointcut workPoints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target(w) &amp;&amp; call(void Worker.doTask(Task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pointcut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666699"/>
                </a:solidFill>
                <a:latin typeface="Courier New"/>
              </a:rPr>
              <a:t>cflow(invocations(c)) &amp;&amp; workPoints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ormhole patter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728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731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734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760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33E4-0955-421A-BF2D-DB50B62BEE9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1523880"/>
            <a:ext cx="8305920" cy="30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 n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4575-F550-4A28-86AC-56E28418E0F1}" type="slidenum">
              <a:t>41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203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1DC5-FF45-4B89-A9E1-A35D89ABDE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25240" y="2138400"/>
            <a:ext cx="4569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imitive pointcu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pointcut is a kind of predicate on join points tha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tch or not match any given join point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ly, can access state at matched joi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728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ans of identifying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00080" y="4863960"/>
            <a:ext cx="745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matches if the join point is a method call with this sig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1AA6-2049-4BCD-807E-BDB68E5DEB7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 composi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5273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ever a Line receives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P1(Point)” or “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P2(Point)”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454360" y="3489480"/>
            <a:ext cx="564840" cy="398880"/>
            <a:chOff x="5454360" y="3489480"/>
            <a:chExt cx="564840" cy="398880"/>
          </a:xfrm>
        </p:grpSpPr>
        <p:sp>
          <p:nvSpPr>
            <p:cNvPr id="227" name=""/>
            <p:cNvSpPr/>
            <p:nvPr/>
          </p:nvSpPr>
          <p:spPr>
            <a:xfrm flipH="1">
              <a:off x="545436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1132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23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233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7524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ntcuts compose like predicates, using &amp;&amp;, || and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4594-1D63-4683-A727-49BFAF9A40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user-defined pointcu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r-defined (aka named) pointcu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in the same way as primitive pointcu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728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d using the pointcut 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3124080"/>
            <a:ext cx="550800" cy="4222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70840" y="27432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868120" y="3124080"/>
            <a:ext cx="484200" cy="45576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6440" y="274320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5650-87F5-4A16-A52B-17F0169AE44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90920" y="472428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89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rimitive pointcut, can also b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8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call,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execution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- this,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8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get, set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- within, withi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8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handler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- cflow, cflow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8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- initialization, static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971440" y="2743200"/>
            <a:ext cx="3404880" cy="762120"/>
            <a:chOff x="2971440" y="2743200"/>
            <a:chExt cx="3404880" cy="762120"/>
          </a:xfrm>
        </p:grpSpPr>
        <p:sp>
          <p:nvSpPr>
            <p:cNvPr id="249" name=""/>
            <p:cNvSpPr/>
            <p:nvPr/>
          </p:nvSpPr>
          <p:spPr>
            <a:xfrm>
              <a:off x="3583440" y="2743200"/>
              <a:ext cx="2792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user-defined pointcu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971440" y="3124080"/>
              <a:ext cx="685800" cy="381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H="1" flipV="1">
            <a:off x="2133360" y="441972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or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C877-A66E-4027-B04B-D2979DC90C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9T23:13:45Z</dcterms:created>
  <dc:creator>the AspectJ.org Team</dc:creator>
  <dc:description/>
  <dc:language>en-US</dc:language>
  <cp:lastModifiedBy>Gregor Kiczales</cp:lastModifiedBy>
  <cp:lastPrinted>1999-10-25T19:43:12Z</cp:lastPrinted>
  <dcterms:modified xsi:type="dcterms:W3CDTF">2004-02-05T19:57:06Z</dcterms:modified>
  <cp:revision>786</cp:revision>
  <dc:subject/>
  <dc:title>Aspect-Oriented Programming with Aspect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88385988</vt:r8>
  </property>
  <property fmtid="{D5CDD505-2E9C-101B-9397-08002B2CF9AE}" pid="3" name="_AuthorEmail">
    <vt:lpwstr>hilsdale@parc.com</vt:lpwstr>
  </property>
  <property fmtid="{D5CDD505-2E9C-101B-9397-08002B2CF9AE}" pid="4" name="_AuthorEmailDisplayName">
    <vt:lpwstr>Hilsdale, Erik &lt;hilsdale@parc.com&gt;</vt:lpwstr>
  </property>
  <property fmtid="{D5CDD505-2E9C-101B-9397-08002B2CF9AE}" pid="5" name="_EmailSubject">
    <vt:lpwstr>Printed slides</vt:lpwstr>
  </property>
  <property fmtid="{D5CDD505-2E9C-101B-9397-08002B2CF9AE}" pid="6" name="_ReviewingToolsShownOnce">
    <vt:lpwstr/>
  </property>
</Properties>
</file>