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Trebuchet MS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21E-23F2-4F64-80C4-C0623D20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A7A7-926E-4E68-A9F7-964BE63A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BF9-3484-4938-ADBE-58618BF17E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DC6-30AD-4390-82F1-DBAAD380F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307-6BA8-44BB-A0F4-7EB5B2FCC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377-622C-45C4-8529-91CE332320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5BE-232D-4786-A48A-99528ECD85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93B-50F2-4073-9D5D-415C58ED9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B1B-6F40-4242-A04D-149D133B3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667-74DA-4CF8-8620-D815E396B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C49-B72D-4401-8757-C03A61153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56C-2B8A-4D49-97BD-4384B4B68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614-59F1-40E9-AE83-38D0EEE52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604-6126-4BE4-964B-0C78A2320D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75320" cy="6850080"/>
            <a:chOff x="0" y="0"/>
            <a:chExt cx="917532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53640" y="3540240"/>
              <a:ext cx="6416640" cy="3309840"/>
              <a:chOff x="2753640" y="3540240"/>
              <a:chExt cx="641664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53640" y="4197240"/>
                <a:ext cx="459216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84a"/>
                  </a:gs>
                  <a:gs pos="100000">
                    <a:srgbClr val="001b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44880" y="4240080"/>
                <a:ext cx="20055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84a"/>
                  </a:gs>
                  <a:gs pos="100000">
                    <a:srgbClr val="001b5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20960" y="5311800"/>
                <a:ext cx="453960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642"/>
                  </a:gs>
                  <a:gs pos="100000">
                    <a:srgbClr val="001b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78680" y="3540240"/>
                <a:ext cx="4791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1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72280" y="3678120"/>
                <a:ext cx="19882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b52"/>
                  </a:gs>
                  <a:gs pos="100000">
                    <a:srgbClr val="00174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93440" y="2128680"/>
              <a:ext cx="29080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1b52"/>
                </a:gs>
                <a:gs pos="100000">
                  <a:srgbClr val="0016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75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1b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76440" y="6248160"/>
            <a:ext cx="526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Imager Labora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for Graphics, Visualization and HC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468360" y="6286680"/>
            <a:ext cx="264960" cy="45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84a"/>
                  </a:gs>
                  <a:gs pos="100000">
                    <a:srgbClr val="001b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84a"/>
                  </a:gs>
                  <a:gs pos="100000">
                    <a:srgbClr val="001b5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642"/>
                  </a:gs>
                  <a:gs pos="100000">
                    <a:srgbClr val="001b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1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b52"/>
                  </a:gs>
                  <a:gs pos="100000">
                    <a:srgbClr val="00174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1b52"/>
                </a:gs>
                <a:gs pos="100000">
                  <a:srgbClr val="0016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1b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Trebuchet MS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539280" y="6251040"/>
            <a:ext cx="548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E0F-6A40-4070-881B-B3C17787B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RR-overview-04.pp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040907-imager-3Min-maclean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BrianGradVisitSlides.pp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rebuchet MS"/>
              </a:rPr>
              <a:t>HCI &amp; Visualization</a:t>
            </a:r>
            <a:endParaRPr b="1" lang="en-US" sz="40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Grad Orientation, Sept 7 2004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6093000"/>
            <a:ext cx="5264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mager Labora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or Graphics, Visualization and H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6021360"/>
            <a:ext cx="417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Trebuchet MS"/>
              </a:rPr>
              <a:t>Multidimensional Scaling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projections from high dimensions to 2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Matt Williams (graduated), David Westro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425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Trebuchet MS"/>
              </a:rPr>
              <a:t>New Projects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visualization for data min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Qiang Ko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scalable graph draw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Dan Archambaul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visualization for power control syste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visualization for computer secur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Kelly Booth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9" name="Booth-ASI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711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Trebuchet MS"/>
              </a:rPr>
              <a:t>Collaboration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porting everyday work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large-screen and multi-screen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tailor elements of the display to the vie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different on private and shared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llaborative visualization for fore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use vs. stylus vs. laser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effect of visual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rectness” of control/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Adaptive menus fo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table top inte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Image007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58164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5" name=""/>
          <p:cNvGrpSpPr/>
          <p:nvPr/>
        </p:nvGrpSpPr>
        <p:grpSpPr>
          <a:xfrm>
            <a:off x="1523880" y="4419720"/>
            <a:ext cx="2743200" cy="1752480"/>
            <a:chOff x="1523880" y="4419720"/>
            <a:chExt cx="2743200" cy="1752480"/>
          </a:xfrm>
        </p:grpSpPr>
        <p:pic>
          <p:nvPicPr>
            <p:cNvPr id="176" name="menu-rotated" descr=""/>
            <p:cNvPicPr/>
            <p:nvPr/>
          </p:nvPicPr>
          <p:blipFill>
            <a:blip r:embed="rId2"/>
            <a:stretch/>
          </p:blipFill>
          <p:spPr>
            <a:xfrm>
              <a:off x="1523880" y="4419720"/>
              <a:ext cx="15282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hand_pen" descr=""/>
            <p:cNvPicPr/>
            <p:nvPr/>
          </p:nvPicPr>
          <p:blipFill>
            <a:blip r:embed="rId3"/>
            <a:stretch/>
          </p:blipFill>
          <p:spPr>
            <a:xfrm>
              <a:off x="3052080" y="4419720"/>
              <a:ext cx="121500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4267080" y="1600200"/>
            <a:ext cx="4711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Problem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nd obscures the menu and the menu doesn’t orient to user’s position at the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Solu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nse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each user and t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enu to the us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echniqu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eural net &amp; Bayesian network to model handedness and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280" y="4419720"/>
            <a:ext cx="1143000" cy="1752480"/>
            <a:chOff x="152280" y="4419720"/>
            <a:chExt cx="1143000" cy="1752480"/>
          </a:xfrm>
        </p:grpSpPr>
        <p:pic>
          <p:nvPicPr>
            <p:cNvPr id="180" name="menu" descr=""/>
            <p:cNvPicPr/>
            <p:nvPr/>
          </p:nvPicPr>
          <p:blipFill>
            <a:blip r:embed="rId4"/>
            <a:stretch/>
          </p:blipFill>
          <p:spPr>
            <a:xfrm>
              <a:off x="152280" y="4419720"/>
              <a:ext cx="942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hand_pen" descr=""/>
            <p:cNvPicPr/>
            <p:nvPr/>
          </p:nvPicPr>
          <p:blipFill>
            <a:blip r:embed="rId5"/>
            <a:stretch/>
          </p:blipFill>
          <p:spPr>
            <a:xfrm>
              <a:off x="152280" y="4419720"/>
              <a:ext cx="1143000" cy="174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Breaking the “real world”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interpretation of a scene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280" y="1784520"/>
            <a:ext cx="5290200" cy="1919160"/>
            <a:chOff x="152280" y="1784520"/>
            <a:chExt cx="5290200" cy="191916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152280" y="1784520"/>
              <a:ext cx="2559240" cy="191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2950560" y="1896840"/>
              <a:ext cx="2491920" cy="1757520"/>
              <a:chOff x="2950560" y="1896840"/>
              <a:chExt cx="2491920" cy="17575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950560" y="1897200"/>
                <a:ext cx="1398600" cy="1679760"/>
                <a:chOff x="2950560" y="1897200"/>
                <a:chExt cx="1398600" cy="16797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462480" y="2854080"/>
                  <a:ext cx="368280" cy="722880"/>
                  <a:chOff x="3462480" y="2854080"/>
                  <a:chExt cx="368280" cy="7228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3462480" y="2854080"/>
                    <a:ext cx="368280" cy="342000"/>
                    <a:chOff x="3462480" y="2854080"/>
                    <a:chExt cx="368280" cy="3420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610080" y="2854080"/>
                      <a:ext cx="74520" cy="7272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ffe957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462480" y="2975760"/>
                      <a:ext cx="368280" cy="147240"/>
                      <a:chOff x="3462480" y="2975760"/>
                      <a:chExt cx="368280" cy="14724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757680" y="2975760"/>
                        <a:ext cx="73080" cy="147240"/>
                      </a:xfrm>
                      <a:prstGeom prst="ellipse">
                        <a:avLst/>
                      </a:prstGeom>
                      <a:solidFill>
                        <a:srgbClr val="ffe957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462480" y="2975760"/>
                        <a:ext cx="73080" cy="147240"/>
                      </a:xfrm>
                      <a:prstGeom prst="ellipse">
                        <a:avLst/>
                      </a:prstGeom>
                      <a:solidFill>
                        <a:srgbClr val="ffe957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00640" y="2902680"/>
                      <a:ext cx="293400" cy="293400"/>
                    </a:xfrm>
                    <a:prstGeom prst="ellipse">
                      <a:avLst/>
                    </a:prstGeom>
                    <a:solidFill>
                      <a:srgbClr val="ffe957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3510000" y="3303000"/>
                    <a:ext cx="274680" cy="273960"/>
                    <a:chOff x="3510000" y="3303000"/>
                    <a:chExt cx="274680" cy="2739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510000" y="3394440"/>
                      <a:ext cx="274680" cy="182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3602160" y="3303000"/>
                      <a:ext cx="90360" cy="9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192480" y="2133000"/>
                  <a:ext cx="914400" cy="1169640"/>
                  <a:chOff x="3192480" y="2133000"/>
                  <a:chExt cx="914400" cy="11696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flipV="1">
                    <a:off x="3192480" y="2133000"/>
                    <a:ext cx="411120" cy="1169640"/>
                  </a:xfrm>
                  <a:prstGeom prst="line">
                    <a:avLst/>
                  </a:prstGeom>
                  <a:ln w="93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V="1">
                    <a:off x="3695760" y="2133000"/>
                    <a:ext cx="411120" cy="1169640"/>
                  </a:xfrm>
                  <a:prstGeom prst="line">
                    <a:avLst/>
                  </a:prstGeom>
                  <a:ln w="93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2950560" y="1897200"/>
                  <a:ext cx="1398600" cy="700560"/>
                  <a:chOff x="2950560" y="1897200"/>
                  <a:chExt cx="1398600" cy="7005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2950560" y="1897560"/>
                    <a:ext cx="700200" cy="7002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3648600" y="1897200"/>
                    <a:ext cx="700560" cy="700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3198960" y="2145960"/>
                  <a:ext cx="895320" cy="456840"/>
                  <a:chOff x="3198960" y="2145960"/>
                  <a:chExt cx="895320" cy="456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637080" y="2145960"/>
                    <a:ext cx="457200" cy="456840"/>
                  </a:xfrm>
                  <a:prstGeom prst="line">
                    <a:avLst/>
                  </a:prstGeom>
                  <a:ln w="381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98960" y="2145960"/>
                    <a:ext cx="457200" cy="456840"/>
                  </a:xfrm>
                  <a:prstGeom prst="line">
                    <a:avLst/>
                  </a:prstGeom>
                  <a:ln w="381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6" name=""/>
              <p:cNvGrpSpPr/>
              <p:nvPr/>
            </p:nvGrpSpPr>
            <p:grpSpPr>
              <a:xfrm>
                <a:off x="3268440" y="1896840"/>
                <a:ext cx="2174040" cy="1757520"/>
                <a:chOff x="3268440" y="1896840"/>
                <a:chExt cx="2174040" cy="1757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380840" y="1896840"/>
                  <a:ext cx="1061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lanes of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rojection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381920" y="2860560"/>
                  <a:ext cx="97020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observer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rojector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3268440" y="2122200"/>
                  <a:ext cx="1067040" cy="1368360"/>
                  <a:chOff x="3268440" y="2122200"/>
                  <a:chExt cx="1067040" cy="13683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3878280" y="303336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3878280" y="349056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268440" y="2122200"/>
                    <a:ext cx="1067040" cy="152280"/>
                    <a:chOff x="3268440" y="2122200"/>
                    <a:chExt cx="1067040" cy="1522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3268440" y="2122200"/>
                      <a:ext cx="1067040" cy="75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3953880" y="2122200"/>
                      <a:ext cx="38124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15" name=""/>
          <p:cNvSpPr/>
          <p:nvPr/>
        </p:nvSpPr>
        <p:spPr>
          <a:xfrm>
            <a:off x="533520" y="3809880"/>
            <a:ext cx="3124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ing the sce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ro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wo planes reduces accuracy (compare Exp 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scene speed now reduces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200480" y="3809880"/>
            <a:ext cx="4647960" cy="2868840"/>
            <a:chOff x="4200480" y="3809880"/>
            <a:chExt cx="4647960" cy="2868840"/>
          </a:xfrm>
        </p:grpSpPr>
        <p:grpSp>
          <p:nvGrpSpPr>
            <p:cNvPr id="217" name=""/>
            <p:cNvGrpSpPr/>
            <p:nvPr/>
          </p:nvGrpSpPr>
          <p:grpSpPr>
            <a:xfrm>
              <a:off x="4720320" y="6080400"/>
              <a:ext cx="2711520" cy="38880"/>
              <a:chOff x="4720320" y="6080400"/>
              <a:chExt cx="2711520" cy="3888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4931280" y="6080400"/>
                <a:ext cx="108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353920" y="6080400"/>
                <a:ext cx="72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5776200" y="6080400"/>
                <a:ext cx="72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26360" y="6080400"/>
                <a:ext cx="108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6849000" y="6080400"/>
                <a:ext cx="108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20320" y="6080400"/>
                <a:ext cx="27115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849000" y="6080400"/>
                <a:ext cx="108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271280" y="6080400"/>
                <a:ext cx="720" cy="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894920" y="6171120"/>
              <a:ext cx="2418840" cy="507600"/>
              <a:chOff x="4894920" y="6171120"/>
              <a:chExt cx="2418840" cy="50760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6384960" y="6171120"/>
                <a:ext cx="928800" cy="213480"/>
                <a:chOff x="6384960" y="6171120"/>
                <a:chExt cx="928800" cy="2134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38496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0076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1404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894920" y="6171120"/>
                <a:ext cx="924120" cy="213480"/>
                <a:chOff x="4894920" y="6171120"/>
                <a:chExt cx="924120" cy="213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89492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30784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719320" y="6171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193360" y="6404040"/>
                <a:ext cx="200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bjects to Track (#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686120" y="4149720"/>
              <a:ext cx="35280" cy="1932120"/>
              <a:chOff x="4686120" y="4149720"/>
              <a:chExt cx="35280" cy="193212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720320" y="4149720"/>
                <a:ext cx="1080" cy="19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6120" y="608076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6120" y="575388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6120" y="543708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6120" y="511020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6120" y="479340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86120" y="446688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86120" y="4150080"/>
                <a:ext cx="34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415400" y="4093560"/>
              <a:ext cx="298080" cy="2138400"/>
              <a:chOff x="4415400" y="4093560"/>
              <a:chExt cx="298080" cy="2138400"/>
            </a:xfrm>
          </p:grpSpPr>
          <p:sp>
            <p:nvSpPr>
              <p:cNvPr id="246" name=""/>
              <p:cNvSpPr/>
              <p:nvPr/>
            </p:nvSpPr>
            <p:spPr>
              <a:xfrm>
                <a:off x="4488480" y="60184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89560" y="57006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89560" y="53798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89560" y="50562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88480" y="47354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88480" y="44078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15400" y="409356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rot="16200000">
              <a:off x="3658320" y="4951800"/>
              <a:ext cx="135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curacy (%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2080" y="3809880"/>
              <a:ext cx="1140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ast Objects</a:t>
              </a:r>
              <a:br>
                <a:rPr sz="16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°/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89080" y="3809880"/>
              <a:ext cx="1186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low Objects</a:t>
              </a:r>
              <a:br>
                <a:rPr sz="16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1°/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728960" y="5754960"/>
              <a:ext cx="2710800" cy="1440"/>
              <a:chOff x="4728960" y="5754960"/>
              <a:chExt cx="2710800" cy="1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72896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348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5836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2324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8812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5300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1788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8276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4764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1252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7740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4228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0716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7204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3692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0180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66680" y="57549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291440" y="4206600"/>
              <a:ext cx="1222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stimat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cking Capac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# object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062120" y="4518720"/>
              <a:ext cx="213840" cy="60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885560" y="4150080"/>
              <a:ext cx="936720" cy="1239480"/>
              <a:chOff x="4885560" y="4150080"/>
              <a:chExt cx="936720" cy="1239480"/>
            </a:xfrm>
          </p:grpSpPr>
          <p:sp>
            <p:nvSpPr>
              <p:cNvPr id="277" name=""/>
              <p:cNvSpPr/>
              <p:nvPr/>
            </p:nvSpPr>
            <p:spPr>
              <a:xfrm flipH="1" flipV="1">
                <a:off x="4924440" y="4207320"/>
                <a:ext cx="421920" cy="268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30920" y="4150080"/>
                <a:ext cx="720" cy="105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98160" y="415008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98160" y="425556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02480" y="4178880"/>
                <a:ext cx="59040" cy="66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5346720" y="4476240"/>
                <a:ext cx="421920" cy="230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53200" y="4341600"/>
                <a:ext cx="720" cy="2685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20080" y="434160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20080" y="4610520"/>
                <a:ext cx="67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24400" y="4447440"/>
                <a:ext cx="58680" cy="669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75120" y="4562640"/>
                <a:ext cx="1080" cy="278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42360" y="456264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42360" y="484128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46320" y="4677840"/>
                <a:ext cx="59040" cy="669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4924440" y="4284360"/>
                <a:ext cx="421920" cy="345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30920" y="4188240"/>
                <a:ext cx="720" cy="18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98160" y="418824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98160" y="437076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02480" y="4255560"/>
                <a:ext cx="5904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5346720" y="4629600"/>
                <a:ext cx="421920" cy="5756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53200" y="4476240"/>
                <a:ext cx="720" cy="307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20080" y="447624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20080" y="478332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24400" y="4601160"/>
                <a:ext cx="5868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75120" y="5042880"/>
                <a:ext cx="1080" cy="316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42360" y="504288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42360" y="535968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46320" y="5176800"/>
                <a:ext cx="5904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4924440" y="4437360"/>
                <a:ext cx="421920" cy="652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30920" y="4332240"/>
                <a:ext cx="720" cy="21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98160" y="433224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98160" y="454356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06440" y="4408920"/>
                <a:ext cx="5040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06440" y="4408920"/>
                <a:ext cx="5040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5346720" y="5090760"/>
                <a:ext cx="421920" cy="191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53200" y="4917960"/>
                <a:ext cx="720" cy="3358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20080" y="491796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20080" y="525384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28720" y="5061960"/>
                <a:ext cx="5040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28720" y="5061960"/>
                <a:ext cx="5040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75120" y="5167440"/>
                <a:ext cx="1080" cy="220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2360" y="5167440"/>
                <a:ext cx="67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42360" y="538848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50640" y="5253840"/>
                <a:ext cx="50400" cy="572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50640" y="5253840"/>
                <a:ext cx="50400" cy="572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85560" y="4159440"/>
                <a:ext cx="9252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89520" y="424584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89520" y="438984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89520" y="438984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07480" y="4428360"/>
                <a:ext cx="9252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11800" y="459144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11800" y="504288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11800" y="504288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34080" y="515772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34080" y="523476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34080" y="523476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29760" y="4658400"/>
                <a:ext cx="9252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1720" y="4553640"/>
              <a:ext cx="934560" cy="1355040"/>
              <a:chOff x="6381720" y="4553640"/>
              <a:chExt cx="934560" cy="1355040"/>
            </a:xfrm>
          </p:grpSpPr>
          <p:sp>
            <p:nvSpPr>
              <p:cNvPr id="335" name=""/>
              <p:cNvSpPr/>
              <p:nvPr/>
            </p:nvSpPr>
            <p:spPr>
              <a:xfrm flipH="1" flipV="1">
                <a:off x="6414840" y="4707360"/>
                <a:ext cx="422280" cy="691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27080" y="4553640"/>
                <a:ext cx="720" cy="307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94320" y="455364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94320" y="4860720"/>
                <a:ext cx="67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98640" y="4678560"/>
                <a:ext cx="59040" cy="66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6837480" y="5398200"/>
                <a:ext cx="422280" cy="258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49360" y="5196960"/>
                <a:ext cx="720" cy="393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16600" y="519696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6600" y="559044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20920" y="5369760"/>
                <a:ext cx="58680" cy="66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6414840" y="4899240"/>
                <a:ext cx="422280" cy="2304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27080" y="4716720"/>
                <a:ext cx="720" cy="36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94320" y="4716720"/>
                <a:ext cx="67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4320" y="508176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98640" y="4870440"/>
                <a:ext cx="5904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6837480" y="5129280"/>
                <a:ext cx="422280" cy="3070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360" y="4937400"/>
                <a:ext cx="720" cy="3744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16600" y="493740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16600" y="531216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20920" y="5100840"/>
                <a:ext cx="5868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6414840" y="4899240"/>
                <a:ext cx="422280" cy="80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27080" y="4755240"/>
                <a:ext cx="720" cy="28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94320" y="475524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94320" y="504324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02600" y="48704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02600" y="48704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837480" y="5657760"/>
                <a:ext cx="422280" cy="47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849360" y="5494680"/>
                <a:ext cx="720" cy="412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816600" y="549468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16600" y="590760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24880" y="5676840"/>
                <a:ext cx="5076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24880" y="5676840"/>
                <a:ext cx="50760" cy="57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0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48" y="48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71640" y="5437080"/>
                <a:ext cx="1080" cy="45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39240" y="5437080"/>
                <a:ext cx="67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239240" y="5888160"/>
                <a:ext cx="6732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71640" y="5254560"/>
                <a:ext cx="108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39240" y="5609880"/>
                <a:ext cx="6732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243200" y="5407920"/>
                <a:ext cx="5904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71640" y="5196960"/>
                <a:ext cx="1080" cy="3934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39240" y="519696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39240" y="5590440"/>
                <a:ext cx="67320" cy="1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81720" y="4659120"/>
                <a:ext cx="9288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85680" y="486072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5680" y="485136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04000" y="5350320"/>
                <a:ext cx="9288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808320" y="509112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30600" y="5398560"/>
                <a:ext cx="84240" cy="95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08320" y="565056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23400" y="5606280"/>
                <a:ext cx="92880" cy="105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28440" y="5602320"/>
                <a:ext cx="84240" cy="95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0" y="80"/>
                    </a:lnTo>
                    <a:lnTo>
                      <a:pt x="8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456880" y="4453200"/>
              <a:ext cx="22788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51120" y="4834080"/>
              <a:ext cx="22392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54000" y="5117760"/>
              <a:ext cx="22788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2960" y="5427360"/>
              <a:ext cx="22932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3240" y="5156280"/>
              <a:ext cx="22932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0440" y="5637960"/>
              <a:ext cx="227520" cy="426600"/>
            </a:xfrm>
            <a:prstGeom prst="rect">
              <a:avLst/>
            </a:prstGeom>
            <a:solidFill>
              <a:srgbClr val="001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689960" y="5132160"/>
              <a:ext cx="1158480" cy="933120"/>
              <a:chOff x="7689960" y="5132160"/>
              <a:chExt cx="1158480" cy="933120"/>
            </a:xfrm>
          </p:grpSpPr>
          <p:sp>
            <p:nvSpPr>
              <p:cNvPr id="392" name=""/>
              <p:cNvSpPr/>
              <p:nvPr/>
            </p:nvSpPr>
            <p:spPr>
              <a:xfrm>
                <a:off x="8006760" y="5428440"/>
                <a:ext cx="7664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on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(0°/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99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low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(2°/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99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Fas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(4°/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59520" y="5684400"/>
                <a:ext cx="59760" cy="66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76360" y="5173920"/>
                <a:ext cx="1072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cene Spe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54840" y="5485320"/>
                <a:ext cx="66960" cy="824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853400" y="5856480"/>
                <a:ext cx="70920" cy="79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89960" y="5132160"/>
                <a:ext cx="1148040" cy="933120"/>
              </a:xfrm>
              <a:prstGeom prst="rect">
                <a:avLst/>
              </a:prstGeom>
              <a:noFill/>
              <a:ln w="9360">
                <a:solidFill>
                  <a:srgbClr val="cdc7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410080" y="1523880"/>
            <a:ext cx="3581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ing is similar for 2D and 3D displays, with accuracy slightly higher in 3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ing is strongly influenced b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 track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pe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Joanna McGrenere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01" name="JoannaMcGrenere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6906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81120" y="1371600"/>
            <a:ext cx="358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daptive and Adaptable interfaces (software bloat)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480060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niversal Us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Aphasia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word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8920" cy="3232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657600" y="3738600"/>
            <a:ext cx="2478240" cy="877680"/>
          </a:xfrm>
          <a:prstGeom prst="cloudCallout">
            <a:avLst>
              <a:gd name="adj1" fmla="val 40986"/>
              <a:gd name="adj2" fmla="val 62384"/>
            </a:avLst>
          </a:prstGeom>
          <a:solidFill>
            <a:srgbClr val="001b5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49920" y="3908520"/>
            <a:ext cx="2271960" cy="701640"/>
          </a:xfrm>
          <a:prstGeom prst="wedgeEllipseCallout">
            <a:avLst>
              <a:gd name="adj1" fmla="val -60787"/>
              <a:gd name="adj2" fmla="val 86175"/>
            </a:avLst>
          </a:prstGeom>
          <a:solidFill>
            <a:srgbClr val="001b5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38098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hasia is a 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loss of word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not intellig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1009800" cy="2171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858000" y="4098960"/>
            <a:ext cx="200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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uter Supported Cooperative Wor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876920" y="1294920"/>
            <a:ext cx="3657240" cy="3200400"/>
            <a:chOff x="4876920" y="1294920"/>
            <a:chExt cx="3657240" cy="3200400"/>
          </a:xfrm>
        </p:grpSpPr>
        <p:grpSp>
          <p:nvGrpSpPr>
            <p:cNvPr id="413" name=""/>
            <p:cNvGrpSpPr/>
            <p:nvPr/>
          </p:nvGrpSpPr>
          <p:grpSpPr>
            <a:xfrm>
              <a:off x="5060520" y="2955600"/>
              <a:ext cx="3342960" cy="1539720"/>
              <a:chOff x="5060520" y="2955600"/>
              <a:chExt cx="3342960" cy="15397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087320" y="3016800"/>
                <a:ext cx="1316160" cy="1454760"/>
                <a:chOff x="7087320" y="3016800"/>
                <a:chExt cx="1316160" cy="145476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7507800" y="3779280"/>
                  <a:ext cx="773640" cy="692280"/>
                  <a:chOff x="7507800" y="3779280"/>
                  <a:chExt cx="773640" cy="6922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>
                    <a:off x="7903080" y="4075560"/>
                    <a:ext cx="140040" cy="124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0060200">
                    <a:off x="7918920" y="4071240"/>
                    <a:ext cx="3268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504">
                        <a:moveTo>
                          <a:pt x="0" y="360"/>
                        </a:moveTo>
                        <a:cubicBezTo>
                          <a:pt x="48" y="288"/>
                          <a:pt x="96" y="216"/>
                          <a:pt x="144" y="168"/>
                        </a:cubicBezTo>
                        <a:cubicBezTo>
                          <a:pt x="192" y="120"/>
                          <a:pt x="232" y="88"/>
                          <a:pt x="288" y="72"/>
                        </a:cubicBezTo>
                        <a:cubicBezTo>
                          <a:pt x="344" y="56"/>
                          <a:pt x="488" y="0"/>
                          <a:pt x="480" y="72"/>
                        </a:cubicBezTo>
                        <a:cubicBezTo>
                          <a:pt x="472" y="144"/>
                          <a:pt x="280" y="432"/>
                          <a:pt x="240" y="50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0060200">
                    <a:off x="7542360" y="3816720"/>
                    <a:ext cx="3924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577">
                        <a:moveTo>
                          <a:pt x="576" y="1"/>
                        </a:moveTo>
                        <a:cubicBezTo>
                          <a:pt x="565" y="2"/>
                          <a:pt x="468" y="0"/>
                          <a:pt x="441" y="24"/>
                        </a:cubicBezTo>
                        <a:cubicBezTo>
                          <a:pt x="428" y="36"/>
                          <a:pt x="411" y="69"/>
                          <a:pt x="411" y="69"/>
                        </a:cubicBezTo>
                        <a:cubicBezTo>
                          <a:pt x="392" y="127"/>
                          <a:pt x="400" y="207"/>
                          <a:pt x="374" y="256"/>
                        </a:cubicBezTo>
                        <a:cubicBezTo>
                          <a:pt x="327" y="342"/>
                          <a:pt x="262" y="374"/>
                          <a:pt x="172" y="398"/>
                        </a:cubicBezTo>
                        <a:cubicBezTo>
                          <a:pt x="145" y="416"/>
                          <a:pt x="125" y="421"/>
                          <a:pt x="112" y="450"/>
                        </a:cubicBezTo>
                        <a:cubicBezTo>
                          <a:pt x="107" y="461"/>
                          <a:pt x="91" y="535"/>
                          <a:pt x="82" y="548"/>
                        </a:cubicBezTo>
                        <a:cubicBezTo>
                          <a:pt x="70" y="566"/>
                          <a:pt x="20" y="577"/>
                          <a:pt x="0" y="57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087320" y="3016800"/>
                  <a:ext cx="1258560" cy="814320"/>
                  <a:chOff x="7087320" y="3016800"/>
                  <a:chExt cx="1258560" cy="81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>
                    <a:off x="7117560" y="3016800"/>
                    <a:ext cx="96444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949">
                        <a:moveTo>
                          <a:pt x="10" y="269"/>
                        </a:moveTo>
                        <a:cubicBezTo>
                          <a:pt x="22" y="456"/>
                          <a:pt x="20" y="643"/>
                          <a:pt x="2" y="830"/>
                        </a:cubicBezTo>
                        <a:cubicBezTo>
                          <a:pt x="5" y="867"/>
                          <a:pt x="0" y="906"/>
                          <a:pt x="10" y="942"/>
                        </a:cubicBezTo>
                        <a:cubicBezTo>
                          <a:pt x="12" y="949"/>
                          <a:pt x="25" y="938"/>
                          <a:pt x="32" y="935"/>
                        </a:cubicBezTo>
                        <a:cubicBezTo>
                          <a:pt x="44" y="930"/>
                          <a:pt x="57" y="925"/>
                          <a:pt x="69" y="920"/>
                        </a:cubicBezTo>
                        <a:cubicBezTo>
                          <a:pt x="118" y="902"/>
                          <a:pt x="168" y="886"/>
                          <a:pt x="219" y="875"/>
                        </a:cubicBezTo>
                        <a:cubicBezTo>
                          <a:pt x="394" y="879"/>
                          <a:pt x="569" y="879"/>
                          <a:pt x="743" y="898"/>
                        </a:cubicBezTo>
                        <a:cubicBezTo>
                          <a:pt x="816" y="921"/>
                          <a:pt x="874" y="929"/>
                          <a:pt x="952" y="935"/>
                        </a:cubicBezTo>
                        <a:cubicBezTo>
                          <a:pt x="1032" y="923"/>
                          <a:pt x="998" y="946"/>
                          <a:pt x="997" y="883"/>
                        </a:cubicBezTo>
                        <a:cubicBezTo>
                          <a:pt x="992" y="646"/>
                          <a:pt x="992" y="409"/>
                          <a:pt x="990" y="172"/>
                        </a:cubicBezTo>
                        <a:cubicBezTo>
                          <a:pt x="693" y="177"/>
                          <a:pt x="396" y="181"/>
                          <a:pt x="99" y="194"/>
                        </a:cubicBezTo>
                        <a:cubicBezTo>
                          <a:pt x="40" y="207"/>
                          <a:pt x="82" y="196"/>
                          <a:pt x="17" y="217"/>
                        </a:cubicBezTo>
                        <a:cubicBezTo>
                          <a:pt x="9" y="219"/>
                          <a:pt x="32" y="212"/>
                          <a:pt x="40" y="209"/>
                        </a:cubicBezTo>
                        <a:cubicBezTo>
                          <a:pt x="57" y="203"/>
                          <a:pt x="69" y="189"/>
                          <a:pt x="84" y="179"/>
                        </a:cubicBezTo>
                        <a:cubicBezTo>
                          <a:pt x="92" y="174"/>
                          <a:pt x="107" y="164"/>
                          <a:pt x="107" y="164"/>
                        </a:cubicBezTo>
                        <a:cubicBezTo>
                          <a:pt x="112" y="157"/>
                          <a:pt x="115" y="148"/>
                          <a:pt x="122" y="142"/>
                        </a:cubicBezTo>
                        <a:cubicBezTo>
                          <a:pt x="136" y="130"/>
                          <a:pt x="167" y="112"/>
                          <a:pt x="167" y="112"/>
                        </a:cubicBezTo>
                        <a:cubicBezTo>
                          <a:pt x="187" y="82"/>
                          <a:pt x="219" y="58"/>
                          <a:pt x="249" y="37"/>
                        </a:cubicBezTo>
                        <a:cubicBezTo>
                          <a:pt x="267" y="10"/>
                          <a:pt x="279" y="9"/>
                          <a:pt x="309" y="0"/>
                        </a:cubicBezTo>
                        <a:cubicBezTo>
                          <a:pt x="411" y="8"/>
                          <a:pt x="504" y="41"/>
                          <a:pt x="608" y="45"/>
                        </a:cubicBezTo>
                        <a:cubicBezTo>
                          <a:pt x="728" y="49"/>
                          <a:pt x="847" y="50"/>
                          <a:pt x="967" y="52"/>
                        </a:cubicBezTo>
                        <a:cubicBezTo>
                          <a:pt x="1159" y="48"/>
                          <a:pt x="1256" y="52"/>
                          <a:pt x="1416" y="15"/>
                        </a:cubicBezTo>
                        <a:cubicBezTo>
                          <a:pt x="1361" y="68"/>
                          <a:pt x="1264" y="104"/>
                          <a:pt x="1192" y="127"/>
                        </a:cubicBezTo>
                        <a:cubicBezTo>
                          <a:pt x="1154" y="152"/>
                          <a:pt x="1110" y="150"/>
                          <a:pt x="1072" y="172"/>
                        </a:cubicBezTo>
                        <a:cubicBezTo>
                          <a:pt x="973" y="228"/>
                          <a:pt x="1058" y="187"/>
                          <a:pt x="1012" y="20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7087320" y="3035880"/>
                    <a:ext cx="125856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8" h="1239">
                        <a:moveTo>
                          <a:pt x="1810" y="0"/>
                        </a:moveTo>
                        <a:cubicBezTo>
                          <a:pt x="1816" y="35"/>
                          <a:pt x="1820" y="55"/>
                          <a:pt x="1825" y="90"/>
                        </a:cubicBezTo>
                        <a:cubicBezTo>
                          <a:pt x="1830" y="127"/>
                          <a:pt x="1840" y="202"/>
                          <a:pt x="1840" y="202"/>
                        </a:cubicBezTo>
                        <a:cubicBezTo>
                          <a:pt x="1848" y="342"/>
                          <a:pt x="1840" y="474"/>
                          <a:pt x="1825" y="613"/>
                        </a:cubicBezTo>
                        <a:cubicBezTo>
                          <a:pt x="1822" y="641"/>
                          <a:pt x="1827" y="670"/>
                          <a:pt x="1818" y="696"/>
                        </a:cubicBezTo>
                        <a:cubicBezTo>
                          <a:pt x="1812" y="713"/>
                          <a:pt x="1783" y="705"/>
                          <a:pt x="1766" y="710"/>
                        </a:cubicBezTo>
                        <a:cubicBezTo>
                          <a:pt x="1731" y="720"/>
                          <a:pt x="1704" y="744"/>
                          <a:pt x="1668" y="755"/>
                        </a:cubicBezTo>
                        <a:cubicBezTo>
                          <a:pt x="1643" y="772"/>
                          <a:pt x="1623" y="778"/>
                          <a:pt x="1593" y="785"/>
                        </a:cubicBezTo>
                        <a:cubicBezTo>
                          <a:pt x="1524" y="832"/>
                          <a:pt x="1440" y="836"/>
                          <a:pt x="1392" y="912"/>
                        </a:cubicBezTo>
                        <a:cubicBezTo>
                          <a:pt x="1435" y="957"/>
                          <a:pt x="1459" y="1017"/>
                          <a:pt x="1489" y="1070"/>
                        </a:cubicBezTo>
                        <a:cubicBezTo>
                          <a:pt x="1498" y="1085"/>
                          <a:pt x="1509" y="1099"/>
                          <a:pt x="1519" y="1114"/>
                        </a:cubicBezTo>
                        <a:cubicBezTo>
                          <a:pt x="1524" y="1122"/>
                          <a:pt x="1534" y="1137"/>
                          <a:pt x="1534" y="1137"/>
                        </a:cubicBezTo>
                        <a:cubicBezTo>
                          <a:pt x="1544" y="1167"/>
                          <a:pt x="1556" y="1182"/>
                          <a:pt x="1579" y="1204"/>
                        </a:cubicBezTo>
                        <a:cubicBezTo>
                          <a:pt x="1479" y="1239"/>
                          <a:pt x="1311" y="1135"/>
                          <a:pt x="1197" y="1122"/>
                        </a:cubicBezTo>
                        <a:cubicBezTo>
                          <a:pt x="1185" y="1117"/>
                          <a:pt x="1172" y="1112"/>
                          <a:pt x="1160" y="1107"/>
                        </a:cubicBezTo>
                        <a:cubicBezTo>
                          <a:pt x="1145" y="1102"/>
                          <a:pt x="1115" y="1092"/>
                          <a:pt x="1115" y="1092"/>
                        </a:cubicBezTo>
                        <a:cubicBezTo>
                          <a:pt x="724" y="1095"/>
                          <a:pt x="393" y="1096"/>
                          <a:pt x="23" y="1114"/>
                        </a:cubicBezTo>
                        <a:cubicBezTo>
                          <a:pt x="15" y="1112"/>
                          <a:pt x="0" y="1115"/>
                          <a:pt x="0" y="1107"/>
                        </a:cubicBezTo>
                        <a:cubicBezTo>
                          <a:pt x="0" y="1098"/>
                          <a:pt x="15" y="1097"/>
                          <a:pt x="23" y="1092"/>
                        </a:cubicBezTo>
                        <a:cubicBezTo>
                          <a:pt x="54" y="1074"/>
                          <a:pt x="48" y="1078"/>
                          <a:pt x="82" y="1070"/>
                        </a:cubicBezTo>
                        <a:cubicBezTo>
                          <a:pt x="127" y="1040"/>
                          <a:pt x="189" y="996"/>
                          <a:pt x="240" y="980"/>
                        </a:cubicBezTo>
                        <a:cubicBezTo>
                          <a:pt x="264" y="964"/>
                          <a:pt x="290" y="956"/>
                          <a:pt x="314" y="942"/>
                        </a:cubicBezTo>
                        <a:cubicBezTo>
                          <a:pt x="330" y="933"/>
                          <a:pt x="342" y="917"/>
                          <a:pt x="359" y="912"/>
                        </a:cubicBezTo>
                        <a:cubicBezTo>
                          <a:pt x="374" y="907"/>
                          <a:pt x="404" y="897"/>
                          <a:pt x="404" y="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7433640" y="3247200"/>
                    <a:ext cx="5842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858" h="462">
                        <a:moveTo>
                          <a:pt x="58" y="60"/>
                        </a:moveTo>
                        <a:cubicBezTo>
                          <a:pt x="62" y="214"/>
                          <a:pt x="0" y="431"/>
                          <a:pt x="200" y="441"/>
                        </a:cubicBezTo>
                        <a:cubicBezTo>
                          <a:pt x="287" y="445"/>
                          <a:pt x="375" y="446"/>
                          <a:pt x="462" y="449"/>
                        </a:cubicBezTo>
                        <a:cubicBezTo>
                          <a:pt x="585" y="458"/>
                          <a:pt x="640" y="462"/>
                          <a:pt x="776" y="456"/>
                        </a:cubicBezTo>
                        <a:cubicBezTo>
                          <a:pt x="841" y="435"/>
                          <a:pt x="831" y="393"/>
                          <a:pt x="851" y="337"/>
                        </a:cubicBezTo>
                        <a:cubicBezTo>
                          <a:pt x="853" y="322"/>
                          <a:pt x="858" y="307"/>
                          <a:pt x="858" y="292"/>
                        </a:cubicBezTo>
                        <a:cubicBezTo>
                          <a:pt x="858" y="230"/>
                          <a:pt x="855" y="167"/>
                          <a:pt x="851" y="105"/>
                        </a:cubicBezTo>
                        <a:cubicBezTo>
                          <a:pt x="850" y="97"/>
                          <a:pt x="845" y="90"/>
                          <a:pt x="843" y="82"/>
                        </a:cubicBezTo>
                        <a:cubicBezTo>
                          <a:pt x="837" y="62"/>
                          <a:pt x="834" y="21"/>
                          <a:pt x="813" y="7"/>
                        </a:cubicBezTo>
                        <a:cubicBezTo>
                          <a:pt x="804" y="1"/>
                          <a:pt x="793" y="2"/>
                          <a:pt x="783" y="0"/>
                        </a:cubicBezTo>
                        <a:cubicBezTo>
                          <a:pt x="556" y="4"/>
                          <a:pt x="367" y="18"/>
                          <a:pt x="147" y="30"/>
                        </a:cubicBezTo>
                        <a:cubicBezTo>
                          <a:pt x="107" y="35"/>
                          <a:pt x="85" y="33"/>
                          <a:pt x="58" y="60"/>
                        </a:cubicBezTo>
                        <a:close/>
                      </a:path>
                    </a:pathLst>
                  </a:custGeom>
                  <a:solidFill>
                    <a:srgbClr val="001b52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"/>
                <p:cNvSpPr/>
                <p:nvPr/>
              </p:nvSpPr>
              <p:spPr>
                <a:xfrm flipH="1">
                  <a:off x="8284680" y="427932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8317440" y="426204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8342280" y="424296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5060520" y="3016800"/>
                <a:ext cx="1316160" cy="1454760"/>
                <a:chOff x="5060520" y="3016800"/>
                <a:chExt cx="1316160" cy="145476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5182560" y="3779280"/>
                  <a:ext cx="773640" cy="692280"/>
                  <a:chOff x="5182560" y="3779280"/>
                  <a:chExt cx="773640" cy="6922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5420880" y="4075560"/>
                    <a:ext cx="140040" cy="124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11539800">
                    <a:off x="5218200" y="4071240"/>
                    <a:ext cx="3268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504">
                        <a:moveTo>
                          <a:pt x="0" y="360"/>
                        </a:moveTo>
                        <a:cubicBezTo>
                          <a:pt x="48" y="288"/>
                          <a:pt x="96" y="216"/>
                          <a:pt x="144" y="168"/>
                        </a:cubicBezTo>
                        <a:cubicBezTo>
                          <a:pt x="192" y="120"/>
                          <a:pt x="232" y="88"/>
                          <a:pt x="288" y="72"/>
                        </a:cubicBezTo>
                        <a:cubicBezTo>
                          <a:pt x="344" y="56"/>
                          <a:pt x="488" y="0"/>
                          <a:pt x="480" y="72"/>
                        </a:cubicBezTo>
                        <a:cubicBezTo>
                          <a:pt x="472" y="144"/>
                          <a:pt x="280" y="432"/>
                          <a:pt x="240" y="50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1539800">
                    <a:off x="5528520" y="3816720"/>
                    <a:ext cx="3924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577">
                        <a:moveTo>
                          <a:pt x="576" y="1"/>
                        </a:moveTo>
                        <a:cubicBezTo>
                          <a:pt x="565" y="2"/>
                          <a:pt x="468" y="0"/>
                          <a:pt x="441" y="24"/>
                        </a:cubicBezTo>
                        <a:cubicBezTo>
                          <a:pt x="428" y="36"/>
                          <a:pt x="411" y="69"/>
                          <a:pt x="411" y="69"/>
                        </a:cubicBezTo>
                        <a:cubicBezTo>
                          <a:pt x="392" y="127"/>
                          <a:pt x="400" y="207"/>
                          <a:pt x="374" y="256"/>
                        </a:cubicBezTo>
                        <a:cubicBezTo>
                          <a:pt x="327" y="342"/>
                          <a:pt x="262" y="374"/>
                          <a:pt x="172" y="398"/>
                        </a:cubicBezTo>
                        <a:cubicBezTo>
                          <a:pt x="145" y="416"/>
                          <a:pt x="125" y="421"/>
                          <a:pt x="112" y="450"/>
                        </a:cubicBezTo>
                        <a:cubicBezTo>
                          <a:pt x="107" y="461"/>
                          <a:pt x="91" y="535"/>
                          <a:pt x="82" y="548"/>
                        </a:cubicBezTo>
                        <a:cubicBezTo>
                          <a:pt x="70" y="566"/>
                          <a:pt x="20" y="577"/>
                          <a:pt x="0" y="57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5118120" y="3016800"/>
                  <a:ext cx="1258560" cy="814320"/>
                  <a:chOff x="5118120" y="3016800"/>
                  <a:chExt cx="1258560" cy="8143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5381640" y="3016800"/>
                    <a:ext cx="96444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949">
                        <a:moveTo>
                          <a:pt x="10" y="269"/>
                        </a:moveTo>
                        <a:cubicBezTo>
                          <a:pt x="22" y="456"/>
                          <a:pt x="20" y="643"/>
                          <a:pt x="2" y="830"/>
                        </a:cubicBezTo>
                        <a:cubicBezTo>
                          <a:pt x="5" y="867"/>
                          <a:pt x="0" y="906"/>
                          <a:pt x="10" y="942"/>
                        </a:cubicBezTo>
                        <a:cubicBezTo>
                          <a:pt x="12" y="949"/>
                          <a:pt x="25" y="938"/>
                          <a:pt x="32" y="935"/>
                        </a:cubicBezTo>
                        <a:cubicBezTo>
                          <a:pt x="44" y="930"/>
                          <a:pt x="57" y="925"/>
                          <a:pt x="69" y="920"/>
                        </a:cubicBezTo>
                        <a:cubicBezTo>
                          <a:pt x="118" y="902"/>
                          <a:pt x="168" y="886"/>
                          <a:pt x="219" y="875"/>
                        </a:cubicBezTo>
                        <a:cubicBezTo>
                          <a:pt x="394" y="879"/>
                          <a:pt x="569" y="879"/>
                          <a:pt x="743" y="898"/>
                        </a:cubicBezTo>
                        <a:cubicBezTo>
                          <a:pt x="816" y="921"/>
                          <a:pt x="874" y="929"/>
                          <a:pt x="952" y="935"/>
                        </a:cubicBezTo>
                        <a:cubicBezTo>
                          <a:pt x="1032" y="923"/>
                          <a:pt x="998" y="946"/>
                          <a:pt x="997" y="883"/>
                        </a:cubicBezTo>
                        <a:cubicBezTo>
                          <a:pt x="992" y="646"/>
                          <a:pt x="992" y="409"/>
                          <a:pt x="990" y="172"/>
                        </a:cubicBezTo>
                        <a:cubicBezTo>
                          <a:pt x="693" y="177"/>
                          <a:pt x="396" y="181"/>
                          <a:pt x="99" y="194"/>
                        </a:cubicBezTo>
                        <a:cubicBezTo>
                          <a:pt x="40" y="207"/>
                          <a:pt x="82" y="196"/>
                          <a:pt x="17" y="217"/>
                        </a:cubicBezTo>
                        <a:cubicBezTo>
                          <a:pt x="9" y="219"/>
                          <a:pt x="32" y="212"/>
                          <a:pt x="40" y="209"/>
                        </a:cubicBezTo>
                        <a:cubicBezTo>
                          <a:pt x="57" y="203"/>
                          <a:pt x="69" y="189"/>
                          <a:pt x="84" y="179"/>
                        </a:cubicBezTo>
                        <a:cubicBezTo>
                          <a:pt x="92" y="174"/>
                          <a:pt x="107" y="164"/>
                          <a:pt x="107" y="164"/>
                        </a:cubicBezTo>
                        <a:cubicBezTo>
                          <a:pt x="112" y="157"/>
                          <a:pt x="115" y="148"/>
                          <a:pt x="122" y="142"/>
                        </a:cubicBezTo>
                        <a:cubicBezTo>
                          <a:pt x="136" y="130"/>
                          <a:pt x="167" y="112"/>
                          <a:pt x="167" y="112"/>
                        </a:cubicBezTo>
                        <a:cubicBezTo>
                          <a:pt x="187" y="82"/>
                          <a:pt x="219" y="58"/>
                          <a:pt x="249" y="37"/>
                        </a:cubicBezTo>
                        <a:cubicBezTo>
                          <a:pt x="267" y="10"/>
                          <a:pt x="279" y="9"/>
                          <a:pt x="309" y="0"/>
                        </a:cubicBezTo>
                        <a:cubicBezTo>
                          <a:pt x="411" y="8"/>
                          <a:pt x="504" y="41"/>
                          <a:pt x="608" y="45"/>
                        </a:cubicBezTo>
                        <a:cubicBezTo>
                          <a:pt x="728" y="49"/>
                          <a:pt x="847" y="50"/>
                          <a:pt x="967" y="52"/>
                        </a:cubicBezTo>
                        <a:cubicBezTo>
                          <a:pt x="1159" y="48"/>
                          <a:pt x="1256" y="52"/>
                          <a:pt x="1416" y="15"/>
                        </a:cubicBezTo>
                        <a:cubicBezTo>
                          <a:pt x="1361" y="68"/>
                          <a:pt x="1264" y="104"/>
                          <a:pt x="1192" y="127"/>
                        </a:cubicBezTo>
                        <a:cubicBezTo>
                          <a:pt x="1154" y="152"/>
                          <a:pt x="1110" y="150"/>
                          <a:pt x="1072" y="172"/>
                        </a:cubicBezTo>
                        <a:cubicBezTo>
                          <a:pt x="973" y="228"/>
                          <a:pt x="1058" y="187"/>
                          <a:pt x="1012" y="20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118120" y="3035880"/>
                    <a:ext cx="125856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8" h="1239">
                        <a:moveTo>
                          <a:pt x="1810" y="0"/>
                        </a:moveTo>
                        <a:cubicBezTo>
                          <a:pt x="1816" y="35"/>
                          <a:pt x="1820" y="55"/>
                          <a:pt x="1825" y="90"/>
                        </a:cubicBezTo>
                        <a:cubicBezTo>
                          <a:pt x="1830" y="127"/>
                          <a:pt x="1840" y="202"/>
                          <a:pt x="1840" y="202"/>
                        </a:cubicBezTo>
                        <a:cubicBezTo>
                          <a:pt x="1848" y="342"/>
                          <a:pt x="1840" y="474"/>
                          <a:pt x="1825" y="613"/>
                        </a:cubicBezTo>
                        <a:cubicBezTo>
                          <a:pt x="1822" y="641"/>
                          <a:pt x="1827" y="670"/>
                          <a:pt x="1818" y="696"/>
                        </a:cubicBezTo>
                        <a:cubicBezTo>
                          <a:pt x="1812" y="713"/>
                          <a:pt x="1783" y="705"/>
                          <a:pt x="1766" y="710"/>
                        </a:cubicBezTo>
                        <a:cubicBezTo>
                          <a:pt x="1731" y="720"/>
                          <a:pt x="1704" y="744"/>
                          <a:pt x="1668" y="755"/>
                        </a:cubicBezTo>
                        <a:cubicBezTo>
                          <a:pt x="1643" y="772"/>
                          <a:pt x="1623" y="778"/>
                          <a:pt x="1593" y="785"/>
                        </a:cubicBezTo>
                        <a:cubicBezTo>
                          <a:pt x="1524" y="832"/>
                          <a:pt x="1440" y="836"/>
                          <a:pt x="1392" y="912"/>
                        </a:cubicBezTo>
                        <a:cubicBezTo>
                          <a:pt x="1435" y="957"/>
                          <a:pt x="1459" y="1017"/>
                          <a:pt x="1489" y="1070"/>
                        </a:cubicBezTo>
                        <a:cubicBezTo>
                          <a:pt x="1498" y="1085"/>
                          <a:pt x="1509" y="1099"/>
                          <a:pt x="1519" y="1114"/>
                        </a:cubicBezTo>
                        <a:cubicBezTo>
                          <a:pt x="1524" y="1122"/>
                          <a:pt x="1534" y="1137"/>
                          <a:pt x="1534" y="1137"/>
                        </a:cubicBezTo>
                        <a:cubicBezTo>
                          <a:pt x="1544" y="1167"/>
                          <a:pt x="1556" y="1182"/>
                          <a:pt x="1579" y="1204"/>
                        </a:cubicBezTo>
                        <a:cubicBezTo>
                          <a:pt x="1479" y="1239"/>
                          <a:pt x="1311" y="1135"/>
                          <a:pt x="1197" y="1122"/>
                        </a:cubicBezTo>
                        <a:cubicBezTo>
                          <a:pt x="1185" y="1117"/>
                          <a:pt x="1172" y="1112"/>
                          <a:pt x="1160" y="1107"/>
                        </a:cubicBezTo>
                        <a:cubicBezTo>
                          <a:pt x="1145" y="1102"/>
                          <a:pt x="1115" y="1092"/>
                          <a:pt x="1115" y="1092"/>
                        </a:cubicBezTo>
                        <a:cubicBezTo>
                          <a:pt x="724" y="1095"/>
                          <a:pt x="393" y="1096"/>
                          <a:pt x="23" y="1114"/>
                        </a:cubicBezTo>
                        <a:cubicBezTo>
                          <a:pt x="15" y="1112"/>
                          <a:pt x="0" y="1115"/>
                          <a:pt x="0" y="1107"/>
                        </a:cubicBezTo>
                        <a:cubicBezTo>
                          <a:pt x="0" y="1098"/>
                          <a:pt x="15" y="1097"/>
                          <a:pt x="23" y="1092"/>
                        </a:cubicBezTo>
                        <a:cubicBezTo>
                          <a:pt x="54" y="1074"/>
                          <a:pt x="48" y="1078"/>
                          <a:pt x="82" y="1070"/>
                        </a:cubicBezTo>
                        <a:cubicBezTo>
                          <a:pt x="127" y="1040"/>
                          <a:pt x="189" y="996"/>
                          <a:pt x="240" y="980"/>
                        </a:cubicBezTo>
                        <a:cubicBezTo>
                          <a:pt x="264" y="964"/>
                          <a:pt x="290" y="956"/>
                          <a:pt x="314" y="942"/>
                        </a:cubicBezTo>
                        <a:cubicBezTo>
                          <a:pt x="330" y="933"/>
                          <a:pt x="342" y="917"/>
                          <a:pt x="359" y="912"/>
                        </a:cubicBezTo>
                        <a:cubicBezTo>
                          <a:pt x="374" y="907"/>
                          <a:pt x="404" y="897"/>
                          <a:pt x="404" y="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445720" y="3247200"/>
                    <a:ext cx="5842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858" h="462">
                        <a:moveTo>
                          <a:pt x="58" y="60"/>
                        </a:moveTo>
                        <a:cubicBezTo>
                          <a:pt x="62" y="214"/>
                          <a:pt x="0" y="431"/>
                          <a:pt x="200" y="441"/>
                        </a:cubicBezTo>
                        <a:cubicBezTo>
                          <a:pt x="287" y="445"/>
                          <a:pt x="375" y="446"/>
                          <a:pt x="462" y="449"/>
                        </a:cubicBezTo>
                        <a:cubicBezTo>
                          <a:pt x="585" y="458"/>
                          <a:pt x="640" y="462"/>
                          <a:pt x="776" y="456"/>
                        </a:cubicBezTo>
                        <a:cubicBezTo>
                          <a:pt x="841" y="435"/>
                          <a:pt x="831" y="393"/>
                          <a:pt x="851" y="337"/>
                        </a:cubicBezTo>
                        <a:cubicBezTo>
                          <a:pt x="853" y="322"/>
                          <a:pt x="858" y="307"/>
                          <a:pt x="858" y="292"/>
                        </a:cubicBezTo>
                        <a:cubicBezTo>
                          <a:pt x="858" y="230"/>
                          <a:pt x="855" y="167"/>
                          <a:pt x="851" y="105"/>
                        </a:cubicBezTo>
                        <a:cubicBezTo>
                          <a:pt x="850" y="97"/>
                          <a:pt x="845" y="90"/>
                          <a:pt x="843" y="82"/>
                        </a:cubicBezTo>
                        <a:cubicBezTo>
                          <a:pt x="837" y="62"/>
                          <a:pt x="834" y="21"/>
                          <a:pt x="813" y="7"/>
                        </a:cubicBezTo>
                        <a:cubicBezTo>
                          <a:pt x="804" y="1"/>
                          <a:pt x="793" y="2"/>
                          <a:pt x="783" y="0"/>
                        </a:cubicBezTo>
                        <a:cubicBezTo>
                          <a:pt x="556" y="4"/>
                          <a:pt x="367" y="18"/>
                          <a:pt x="147" y="30"/>
                        </a:cubicBezTo>
                        <a:cubicBezTo>
                          <a:pt x="107" y="35"/>
                          <a:pt x="85" y="33"/>
                          <a:pt x="58" y="60"/>
                        </a:cubicBezTo>
                        <a:close/>
                      </a:path>
                    </a:pathLst>
                  </a:custGeom>
                  <a:solidFill>
                    <a:srgbClr val="001b52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5118120" y="427932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085360" y="426204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060520" y="424296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6694920" y="2955600"/>
                <a:ext cx="0" cy="1539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072760" y="1294920"/>
              <a:ext cx="3342960" cy="1539720"/>
              <a:chOff x="5072760" y="1294920"/>
              <a:chExt cx="3342960" cy="15397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7099560" y="1318680"/>
                <a:ext cx="1316160" cy="1454760"/>
                <a:chOff x="7099560" y="1318680"/>
                <a:chExt cx="1316160" cy="14547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7520040" y="1318680"/>
                  <a:ext cx="773640" cy="692280"/>
                  <a:chOff x="7520040" y="1318680"/>
                  <a:chExt cx="773640" cy="6922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7915320" y="1589760"/>
                    <a:ext cx="140040" cy="124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 rot="11539800">
                    <a:off x="7931160" y="1348920"/>
                    <a:ext cx="3268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504">
                        <a:moveTo>
                          <a:pt x="0" y="360"/>
                        </a:moveTo>
                        <a:cubicBezTo>
                          <a:pt x="48" y="288"/>
                          <a:pt x="96" y="216"/>
                          <a:pt x="144" y="168"/>
                        </a:cubicBezTo>
                        <a:cubicBezTo>
                          <a:pt x="192" y="120"/>
                          <a:pt x="232" y="88"/>
                          <a:pt x="288" y="72"/>
                        </a:cubicBezTo>
                        <a:cubicBezTo>
                          <a:pt x="344" y="56"/>
                          <a:pt x="488" y="0"/>
                          <a:pt x="480" y="72"/>
                        </a:cubicBezTo>
                        <a:cubicBezTo>
                          <a:pt x="472" y="144"/>
                          <a:pt x="280" y="432"/>
                          <a:pt x="240" y="50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 rot="11539800">
                    <a:off x="7554600" y="1602720"/>
                    <a:ext cx="3924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577">
                        <a:moveTo>
                          <a:pt x="576" y="1"/>
                        </a:moveTo>
                        <a:cubicBezTo>
                          <a:pt x="565" y="2"/>
                          <a:pt x="468" y="0"/>
                          <a:pt x="441" y="24"/>
                        </a:cubicBezTo>
                        <a:cubicBezTo>
                          <a:pt x="428" y="36"/>
                          <a:pt x="411" y="69"/>
                          <a:pt x="411" y="69"/>
                        </a:cubicBezTo>
                        <a:cubicBezTo>
                          <a:pt x="392" y="127"/>
                          <a:pt x="400" y="207"/>
                          <a:pt x="374" y="256"/>
                        </a:cubicBezTo>
                        <a:cubicBezTo>
                          <a:pt x="327" y="342"/>
                          <a:pt x="262" y="374"/>
                          <a:pt x="172" y="398"/>
                        </a:cubicBezTo>
                        <a:cubicBezTo>
                          <a:pt x="145" y="416"/>
                          <a:pt x="125" y="421"/>
                          <a:pt x="112" y="450"/>
                        </a:cubicBezTo>
                        <a:cubicBezTo>
                          <a:pt x="107" y="461"/>
                          <a:pt x="91" y="535"/>
                          <a:pt x="82" y="548"/>
                        </a:cubicBezTo>
                        <a:cubicBezTo>
                          <a:pt x="70" y="566"/>
                          <a:pt x="20" y="577"/>
                          <a:pt x="0" y="57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099560" y="1959120"/>
                  <a:ext cx="1258560" cy="814320"/>
                  <a:chOff x="7099560" y="1959120"/>
                  <a:chExt cx="1258560" cy="8143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7129800" y="2164320"/>
                    <a:ext cx="96444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949">
                        <a:moveTo>
                          <a:pt x="10" y="269"/>
                        </a:moveTo>
                        <a:cubicBezTo>
                          <a:pt x="22" y="456"/>
                          <a:pt x="20" y="643"/>
                          <a:pt x="2" y="830"/>
                        </a:cubicBezTo>
                        <a:cubicBezTo>
                          <a:pt x="5" y="867"/>
                          <a:pt x="0" y="906"/>
                          <a:pt x="10" y="942"/>
                        </a:cubicBezTo>
                        <a:cubicBezTo>
                          <a:pt x="12" y="949"/>
                          <a:pt x="25" y="938"/>
                          <a:pt x="32" y="935"/>
                        </a:cubicBezTo>
                        <a:cubicBezTo>
                          <a:pt x="44" y="930"/>
                          <a:pt x="57" y="925"/>
                          <a:pt x="69" y="920"/>
                        </a:cubicBezTo>
                        <a:cubicBezTo>
                          <a:pt x="118" y="902"/>
                          <a:pt x="168" y="886"/>
                          <a:pt x="219" y="875"/>
                        </a:cubicBezTo>
                        <a:cubicBezTo>
                          <a:pt x="394" y="879"/>
                          <a:pt x="569" y="879"/>
                          <a:pt x="743" y="898"/>
                        </a:cubicBezTo>
                        <a:cubicBezTo>
                          <a:pt x="816" y="921"/>
                          <a:pt x="874" y="929"/>
                          <a:pt x="952" y="935"/>
                        </a:cubicBezTo>
                        <a:cubicBezTo>
                          <a:pt x="1032" y="923"/>
                          <a:pt x="998" y="946"/>
                          <a:pt x="997" y="883"/>
                        </a:cubicBezTo>
                        <a:cubicBezTo>
                          <a:pt x="992" y="646"/>
                          <a:pt x="992" y="409"/>
                          <a:pt x="990" y="172"/>
                        </a:cubicBezTo>
                        <a:cubicBezTo>
                          <a:pt x="693" y="177"/>
                          <a:pt x="396" y="181"/>
                          <a:pt x="99" y="194"/>
                        </a:cubicBezTo>
                        <a:cubicBezTo>
                          <a:pt x="40" y="207"/>
                          <a:pt x="82" y="196"/>
                          <a:pt x="17" y="217"/>
                        </a:cubicBezTo>
                        <a:cubicBezTo>
                          <a:pt x="9" y="219"/>
                          <a:pt x="32" y="212"/>
                          <a:pt x="40" y="209"/>
                        </a:cubicBezTo>
                        <a:cubicBezTo>
                          <a:pt x="57" y="203"/>
                          <a:pt x="69" y="189"/>
                          <a:pt x="84" y="179"/>
                        </a:cubicBezTo>
                        <a:cubicBezTo>
                          <a:pt x="92" y="174"/>
                          <a:pt x="107" y="164"/>
                          <a:pt x="107" y="164"/>
                        </a:cubicBezTo>
                        <a:cubicBezTo>
                          <a:pt x="112" y="157"/>
                          <a:pt x="115" y="148"/>
                          <a:pt x="122" y="142"/>
                        </a:cubicBezTo>
                        <a:cubicBezTo>
                          <a:pt x="136" y="130"/>
                          <a:pt x="167" y="112"/>
                          <a:pt x="167" y="112"/>
                        </a:cubicBezTo>
                        <a:cubicBezTo>
                          <a:pt x="187" y="82"/>
                          <a:pt x="219" y="58"/>
                          <a:pt x="249" y="37"/>
                        </a:cubicBezTo>
                        <a:cubicBezTo>
                          <a:pt x="267" y="10"/>
                          <a:pt x="279" y="9"/>
                          <a:pt x="309" y="0"/>
                        </a:cubicBezTo>
                        <a:cubicBezTo>
                          <a:pt x="411" y="8"/>
                          <a:pt x="504" y="41"/>
                          <a:pt x="608" y="45"/>
                        </a:cubicBezTo>
                        <a:cubicBezTo>
                          <a:pt x="728" y="49"/>
                          <a:pt x="847" y="50"/>
                          <a:pt x="967" y="52"/>
                        </a:cubicBezTo>
                        <a:cubicBezTo>
                          <a:pt x="1159" y="48"/>
                          <a:pt x="1256" y="52"/>
                          <a:pt x="1416" y="15"/>
                        </a:cubicBezTo>
                        <a:cubicBezTo>
                          <a:pt x="1361" y="68"/>
                          <a:pt x="1264" y="104"/>
                          <a:pt x="1192" y="127"/>
                        </a:cubicBezTo>
                        <a:cubicBezTo>
                          <a:pt x="1154" y="152"/>
                          <a:pt x="1110" y="150"/>
                          <a:pt x="1072" y="172"/>
                        </a:cubicBezTo>
                        <a:cubicBezTo>
                          <a:pt x="973" y="228"/>
                          <a:pt x="1058" y="187"/>
                          <a:pt x="1012" y="20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7099560" y="1958760"/>
                    <a:ext cx="125856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8" h="1239">
                        <a:moveTo>
                          <a:pt x="1810" y="0"/>
                        </a:moveTo>
                        <a:cubicBezTo>
                          <a:pt x="1816" y="35"/>
                          <a:pt x="1820" y="55"/>
                          <a:pt x="1825" y="90"/>
                        </a:cubicBezTo>
                        <a:cubicBezTo>
                          <a:pt x="1830" y="127"/>
                          <a:pt x="1840" y="202"/>
                          <a:pt x="1840" y="202"/>
                        </a:cubicBezTo>
                        <a:cubicBezTo>
                          <a:pt x="1848" y="342"/>
                          <a:pt x="1840" y="474"/>
                          <a:pt x="1825" y="613"/>
                        </a:cubicBezTo>
                        <a:cubicBezTo>
                          <a:pt x="1822" y="641"/>
                          <a:pt x="1827" y="670"/>
                          <a:pt x="1818" y="696"/>
                        </a:cubicBezTo>
                        <a:cubicBezTo>
                          <a:pt x="1812" y="713"/>
                          <a:pt x="1783" y="705"/>
                          <a:pt x="1766" y="710"/>
                        </a:cubicBezTo>
                        <a:cubicBezTo>
                          <a:pt x="1731" y="720"/>
                          <a:pt x="1704" y="744"/>
                          <a:pt x="1668" y="755"/>
                        </a:cubicBezTo>
                        <a:cubicBezTo>
                          <a:pt x="1643" y="772"/>
                          <a:pt x="1623" y="778"/>
                          <a:pt x="1593" y="785"/>
                        </a:cubicBezTo>
                        <a:cubicBezTo>
                          <a:pt x="1524" y="832"/>
                          <a:pt x="1440" y="836"/>
                          <a:pt x="1392" y="912"/>
                        </a:cubicBezTo>
                        <a:cubicBezTo>
                          <a:pt x="1435" y="957"/>
                          <a:pt x="1459" y="1017"/>
                          <a:pt x="1489" y="1070"/>
                        </a:cubicBezTo>
                        <a:cubicBezTo>
                          <a:pt x="1498" y="1085"/>
                          <a:pt x="1509" y="1099"/>
                          <a:pt x="1519" y="1114"/>
                        </a:cubicBezTo>
                        <a:cubicBezTo>
                          <a:pt x="1524" y="1122"/>
                          <a:pt x="1534" y="1137"/>
                          <a:pt x="1534" y="1137"/>
                        </a:cubicBezTo>
                        <a:cubicBezTo>
                          <a:pt x="1544" y="1167"/>
                          <a:pt x="1556" y="1182"/>
                          <a:pt x="1579" y="1204"/>
                        </a:cubicBezTo>
                        <a:cubicBezTo>
                          <a:pt x="1479" y="1239"/>
                          <a:pt x="1311" y="1135"/>
                          <a:pt x="1197" y="1122"/>
                        </a:cubicBezTo>
                        <a:cubicBezTo>
                          <a:pt x="1185" y="1117"/>
                          <a:pt x="1172" y="1112"/>
                          <a:pt x="1160" y="1107"/>
                        </a:cubicBezTo>
                        <a:cubicBezTo>
                          <a:pt x="1145" y="1102"/>
                          <a:pt x="1115" y="1092"/>
                          <a:pt x="1115" y="1092"/>
                        </a:cubicBezTo>
                        <a:cubicBezTo>
                          <a:pt x="724" y="1095"/>
                          <a:pt x="393" y="1096"/>
                          <a:pt x="23" y="1114"/>
                        </a:cubicBezTo>
                        <a:cubicBezTo>
                          <a:pt x="15" y="1112"/>
                          <a:pt x="0" y="1115"/>
                          <a:pt x="0" y="1107"/>
                        </a:cubicBezTo>
                        <a:cubicBezTo>
                          <a:pt x="0" y="1098"/>
                          <a:pt x="15" y="1097"/>
                          <a:pt x="23" y="1092"/>
                        </a:cubicBezTo>
                        <a:cubicBezTo>
                          <a:pt x="54" y="1074"/>
                          <a:pt x="48" y="1078"/>
                          <a:pt x="82" y="1070"/>
                        </a:cubicBezTo>
                        <a:cubicBezTo>
                          <a:pt x="127" y="1040"/>
                          <a:pt x="189" y="996"/>
                          <a:pt x="240" y="980"/>
                        </a:cubicBezTo>
                        <a:cubicBezTo>
                          <a:pt x="264" y="964"/>
                          <a:pt x="290" y="956"/>
                          <a:pt x="314" y="942"/>
                        </a:cubicBezTo>
                        <a:cubicBezTo>
                          <a:pt x="330" y="933"/>
                          <a:pt x="342" y="917"/>
                          <a:pt x="359" y="912"/>
                        </a:cubicBezTo>
                        <a:cubicBezTo>
                          <a:pt x="374" y="907"/>
                          <a:pt x="404" y="897"/>
                          <a:pt x="404" y="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7445880" y="2246400"/>
                    <a:ext cx="5842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858" h="462">
                        <a:moveTo>
                          <a:pt x="58" y="60"/>
                        </a:moveTo>
                        <a:cubicBezTo>
                          <a:pt x="62" y="214"/>
                          <a:pt x="0" y="431"/>
                          <a:pt x="200" y="441"/>
                        </a:cubicBezTo>
                        <a:cubicBezTo>
                          <a:pt x="287" y="445"/>
                          <a:pt x="375" y="446"/>
                          <a:pt x="462" y="449"/>
                        </a:cubicBezTo>
                        <a:cubicBezTo>
                          <a:pt x="585" y="458"/>
                          <a:pt x="640" y="462"/>
                          <a:pt x="776" y="456"/>
                        </a:cubicBezTo>
                        <a:cubicBezTo>
                          <a:pt x="841" y="435"/>
                          <a:pt x="831" y="393"/>
                          <a:pt x="851" y="337"/>
                        </a:cubicBezTo>
                        <a:cubicBezTo>
                          <a:pt x="853" y="322"/>
                          <a:pt x="858" y="307"/>
                          <a:pt x="858" y="292"/>
                        </a:cubicBezTo>
                        <a:cubicBezTo>
                          <a:pt x="858" y="230"/>
                          <a:pt x="855" y="167"/>
                          <a:pt x="851" y="105"/>
                        </a:cubicBezTo>
                        <a:cubicBezTo>
                          <a:pt x="850" y="97"/>
                          <a:pt x="845" y="90"/>
                          <a:pt x="843" y="82"/>
                        </a:cubicBezTo>
                        <a:cubicBezTo>
                          <a:pt x="837" y="62"/>
                          <a:pt x="834" y="21"/>
                          <a:pt x="813" y="7"/>
                        </a:cubicBezTo>
                        <a:cubicBezTo>
                          <a:pt x="804" y="1"/>
                          <a:pt x="793" y="2"/>
                          <a:pt x="783" y="0"/>
                        </a:cubicBezTo>
                        <a:cubicBezTo>
                          <a:pt x="556" y="4"/>
                          <a:pt x="367" y="18"/>
                          <a:pt x="147" y="30"/>
                        </a:cubicBezTo>
                        <a:cubicBezTo>
                          <a:pt x="107" y="35"/>
                          <a:pt x="85" y="33"/>
                          <a:pt x="58" y="60"/>
                        </a:cubicBezTo>
                        <a:close/>
                      </a:path>
                    </a:pathLst>
                  </a:custGeom>
                  <a:solidFill>
                    <a:srgbClr val="001b52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"/>
                <p:cNvSpPr/>
                <p:nvPr/>
              </p:nvSpPr>
              <p:spPr>
                <a:xfrm flipH="1" flipV="1">
                  <a:off x="8296920" y="137700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>
                  <a:off x="8329680" y="139428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8354520" y="141336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072760" y="1318680"/>
                <a:ext cx="1316160" cy="1454760"/>
                <a:chOff x="5072760" y="1318680"/>
                <a:chExt cx="1316160" cy="14547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5194800" y="1318680"/>
                  <a:ext cx="773640" cy="692280"/>
                  <a:chOff x="5194800" y="1318680"/>
                  <a:chExt cx="773640" cy="6922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flipH="1">
                    <a:off x="5433120" y="1589760"/>
                    <a:ext cx="140040" cy="124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 rot="10060200">
                    <a:off x="5230440" y="1348920"/>
                    <a:ext cx="3268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504">
                        <a:moveTo>
                          <a:pt x="0" y="360"/>
                        </a:moveTo>
                        <a:cubicBezTo>
                          <a:pt x="48" y="288"/>
                          <a:pt x="96" y="216"/>
                          <a:pt x="144" y="168"/>
                        </a:cubicBezTo>
                        <a:cubicBezTo>
                          <a:pt x="192" y="120"/>
                          <a:pt x="232" y="88"/>
                          <a:pt x="288" y="72"/>
                        </a:cubicBezTo>
                        <a:cubicBezTo>
                          <a:pt x="344" y="56"/>
                          <a:pt x="488" y="0"/>
                          <a:pt x="480" y="72"/>
                        </a:cubicBezTo>
                        <a:cubicBezTo>
                          <a:pt x="472" y="144"/>
                          <a:pt x="280" y="432"/>
                          <a:pt x="240" y="50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 rot="10060200">
                    <a:off x="5540760" y="1602720"/>
                    <a:ext cx="3924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577">
                        <a:moveTo>
                          <a:pt x="576" y="1"/>
                        </a:moveTo>
                        <a:cubicBezTo>
                          <a:pt x="565" y="2"/>
                          <a:pt x="468" y="0"/>
                          <a:pt x="441" y="24"/>
                        </a:cubicBezTo>
                        <a:cubicBezTo>
                          <a:pt x="428" y="36"/>
                          <a:pt x="411" y="69"/>
                          <a:pt x="411" y="69"/>
                        </a:cubicBezTo>
                        <a:cubicBezTo>
                          <a:pt x="392" y="127"/>
                          <a:pt x="400" y="207"/>
                          <a:pt x="374" y="256"/>
                        </a:cubicBezTo>
                        <a:cubicBezTo>
                          <a:pt x="327" y="342"/>
                          <a:pt x="262" y="374"/>
                          <a:pt x="172" y="398"/>
                        </a:cubicBezTo>
                        <a:cubicBezTo>
                          <a:pt x="145" y="416"/>
                          <a:pt x="125" y="421"/>
                          <a:pt x="112" y="450"/>
                        </a:cubicBezTo>
                        <a:cubicBezTo>
                          <a:pt x="107" y="461"/>
                          <a:pt x="91" y="535"/>
                          <a:pt x="82" y="548"/>
                        </a:cubicBezTo>
                        <a:cubicBezTo>
                          <a:pt x="70" y="566"/>
                          <a:pt x="20" y="577"/>
                          <a:pt x="0" y="57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5130360" y="1959120"/>
                  <a:ext cx="1258560" cy="814320"/>
                  <a:chOff x="5130360" y="1959120"/>
                  <a:chExt cx="1258560" cy="8143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V="1">
                    <a:off x="5393880" y="2164320"/>
                    <a:ext cx="96444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949">
                        <a:moveTo>
                          <a:pt x="10" y="269"/>
                        </a:moveTo>
                        <a:cubicBezTo>
                          <a:pt x="22" y="456"/>
                          <a:pt x="20" y="643"/>
                          <a:pt x="2" y="830"/>
                        </a:cubicBezTo>
                        <a:cubicBezTo>
                          <a:pt x="5" y="867"/>
                          <a:pt x="0" y="906"/>
                          <a:pt x="10" y="942"/>
                        </a:cubicBezTo>
                        <a:cubicBezTo>
                          <a:pt x="12" y="949"/>
                          <a:pt x="25" y="938"/>
                          <a:pt x="32" y="935"/>
                        </a:cubicBezTo>
                        <a:cubicBezTo>
                          <a:pt x="44" y="930"/>
                          <a:pt x="57" y="925"/>
                          <a:pt x="69" y="920"/>
                        </a:cubicBezTo>
                        <a:cubicBezTo>
                          <a:pt x="118" y="902"/>
                          <a:pt x="168" y="886"/>
                          <a:pt x="219" y="875"/>
                        </a:cubicBezTo>
                        <a:cubicBezTo>
                          <a:pt x="394" y="879"/>
                          <a:pt x="569" y="879"/>
                          <a:pt x="743" y="898"/>
                        </a:cubicBezTo>
                        <a:cubicBezTo>
                          <a:pt x="816" y="921"/>
                          <a:pt x="874" y="929"/>
                          <a:pt x="952" y="935"/>
                        </a:cubicBezTo>
                        <a:cubicBezTo>
                          <a:pt x="1032" y="923"/>
                          <a:pt x="998" y="946"/>
                          <a:pt x="997" y="883"/>
                        </a:cubicBezTo>
                        <a:cubicBezTo>
                          <a:pt x="992" y="646"/>
                          <a:pt x="992" y="409"/>
                          <a:pt x="990" y="172"/>
                        </a:cubicBezTo>
                        <a:cubicBezTo>
                          <a:pt x="693" y="177"/>
                          <a:pt x="396" y="181"/>
                          <a:pt x="99" y="194"/>
                        </a:cubicBezTo>
                        <a:cubicBezTo>
                          <a:pt x="40" y="207"/>
                          <a:pt x="82" y="196"/>
                          <a:pt x="17" y="217"/>
                        </a:cubicBezTo>
                        <a:cubicBezTo>
                          <a:pt x="9" y="219"/>
                          <a:pt x="32" y="212"/>
                          <a:pt x="40" y="209"/>
                        </a:cubicBezTo>
                        <a:cubicBezTo>
                          <a:pt x="57" y="203"/>
                          <a:pt x="69" y="189"/>
                          <a:pt x="84" y="179"/>
                        </a:cubicBezTo>
                        <a:cubicBezTo>
                          <a:pt x="92" y="174"/>
                          <a:pt x="107" y="164"/>
                          <a:pt x="107" y="164"/>
                        </a:cubicBezTo>
                        <a:cubicBezTo>
                          <a:pt x="112" y="157"/>
                          <a:pt x="115" y="148"/>
                          <a:pt x="122" y="142"/>
                        </a:cubicBezTo>
                        <a:cubicBezTo>
                          <a:pt x="136" y="130"/>
                          <a:pt x="167" y="112"/>
                          <a:pt x="167" y="112"/>
                        </a:cubicBezTo>
                        <a:cubicBezTo>
                          <a:pt x="187" y="82"/>
                          <a:pt x="219" y="58"/>
                          <a:pt x="249" y="37"/>
                        </a:cubicBezTo>
                        <a:cubicBezTo>
                          <a:pt x="267" y="10"/>
                          <a:pt x="279" y="9"/>
                          <a:pt x="309" y="0"/>
                        </a:cubicBezTo>
                        <a:cubicBezTo>
                          <a:pt x="411" y="8"/>
                          <a:pt x="504" y="41"/>
                          <a:pt x="608" y="45"/>
                        </a:cubicBezTo>
                        <a:cubicBezTo>
                          <a:pt x="728" y="49"/>
                          <a:pt x="847" y="50"/>
                          <a:pt x="967" y="52"/>
                        </a:cubicBezTo>
                        <a:cubicBezTo>
                          <a:pt x="1159" y="48"/>
                          <a:pt x="1256" y="52"/>
                          <a:pt x="1416" y="15"/>
                        </a:cubicBezTo>
                        <a:cubicBezTo>
                          <a:pt x="1361" y="68"/>
                          <a:pt x="1264" y="104"/>
                          <a:pt x="1192" y="127"/>
                        </a:cubicBezTo>
                        <a:cubicBezTo>
                          <a:pt x="1154" y="152"/>
                          <a:pt x="1110" y="150"/>
                          <a:pt x="1072" y="172"/>
                        </a:cubicBezTo>
                        <a:cubicBezTo>
                          <a:pt x="973" y="228"/>
                          <a:pt x="1058" y="187"/>
                          <a:pt x="1012" y="20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5130360" y="1958760"/>
                    <a:ext cx="1258560" cy="79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8" h="1239">
                        <a:moveTo>
                          <a:pt x="1810" y="0"/>
                        </a:moveTo>
                        <a:cubicBezTo>
                          <a:pt x="1816" y="35"/>
                          <a:pt x="1820" y="55"/>
                          <a:pt x="1825" y="90"/>
                        </a:cubicBezTo>
                        <a:cubicBezTo>
                          <a:pt x="1830" y="127"/>
                          <a:pt x="1840" y="202"/>
                          <a:pt x="1840" y="202"/>
                        </a:cubicBezTo>
                        <a:cubicBezTo>
                          <a:pt x="1848" y="342"/>
                          <a:pt x="1840" y="474"/>
                          <a:pt x="1825" y="613"/>
                        </a:cubicBezTo>
                        <a:cubicBezTo>
                          <a:pt x="1822" y="641"/>
                          <a:pt x="1827" y="670"/>
                          <a:pt x="1818" y="696"/>
                        </a:cubicBezTo>
                        <a:cubicBezTo>
                          <a:pt x="1812" y="713"/>
                          <a:pt x="1783" y="705"/>
                          <a:pt x="1766" y="710"/>
                        </a:cubicBezTo>
                        <a:cubicBezTo>
                          <a:pt x="1731" y="720"/>
                          <a:pt x="1704" y="744"/>
                          <a:pt x="1668" y="755"/>
                        </a:cubicBezTo>
                        <a:cubicBezTo>
                          <a:pt x="1643" y="772"/>
                          <a:pt x="1623" y="778"/>
                          <a:pt x="1593" y="785"/>
                        </a:cubicBezTo>
                        <a:cubicBezTo>
                          <a:pt x="1524" y="832"/>
                          <a:pt x="1440" y="836"/>
                          <a:pt x="1392" y="912"/>
                        </a:cubicBezTo>
                        <a:cubicBezTo>
                          <a:pt x="1435" y="957"/>
                          <a:pt x="1459" y="1017"/>
                          <a:pt x="1489" y="1070"/>
                        </a:cubicBezTo>
                        <a:cubicBezTo>
                          <a:pt x="1498" y="1085"/>
                          <a:pt x="1509" y="1099"/>
                          <a:pt x="1519" y="1114"/>
                        </a:cubicBezTo>
                        <a:cubicBezTo>
                          <a:pt x="1524" y="1122"/>
                          <a:pt x="1534" y="1137"/>
                          <a:pt x="1534" y="1137"/>
                        </a:cubicBezTo>
                        <a:cubicBezTo>
                          <a:pt x="1544" y="1167"/>
                          <a:pt x="1556" y="1182"/>
                          <a:pt x="1579" y="1204"/>
                        </a:cubicBezTo>
                        <a:cubicBezTo>
                          <a:pt x="1479" y="1239"/>
                          <a:pt x="1311" y="1135"/>
                          <a:pt x="1197" y="1122"/>
                        </a:cubicBezTo>
                        <a:cubicBezTo>
                          <a:pt x="1185" y="1117"/>
                          <a:pt x="1172" y="1112"/>
                          <a:pt x="1160" y="1107"/>
                        </a:cubicBezTo>
                        <a:cubicBezTo>
                          <a:pt x="1145" y="1102"/>
                          <a:pt x="1115" y="1092"/>
                          <a:pt x="1115" y="1092"/>
                        </a:cubicBezTo>
                        <a:cubicBezTo>
                          <a:pt x="724" y="1095"/>
                          <a:pt x="393" y="1096"/>
                          <a:pt x="23" y="1114"/>
                        </a:cubicBezTo>
                        <a:cubicBezTo>
                          <a:pt x="15" y="1112"/>
                          <a:pt x="0" y="1115"/>
                          <a:pt x="0" y="1107"/>
                        </a:cubicBezTo>
                        <a:cubicBezTo>
                          <a:pt x="0" y="1098"/>
                          <a:pt x="15" y="1097"/>
                          <a:pt x="23" y="1092"/>
                        </a:cubicBezTo>
                        <a:cubicBezTo>
                          <a:pt x="54" y="1074"/>
                          <a:pt x="48" y="1078"/>
                          <a:pt x="82" y="1070"/>
                        </a:cubicBezTo>
                        <a:cubicBezTo>
                          <a:pt x="127" y="1040"/>
                          <a:pt x="189" y="996"/>
                          <a:pt x="240" y="980"/>
                        </a:cubicBezTo>
                        <a:cubicBezTo>
                          <a:pt x="264" y="964"/>
                          <a:pt x="290" y="956"/>
                          <a:pt x="314" y="942"/>
                        </a:cubicBezTo>
                        <a:cubicBezTo>
                          <a:pt x="330" y="933"/>
                          <a:pt x="342" y="917"/>
                          <a:pt x="359" y="912"/>
                        </a:cubicBezTo>
                        <a:cubicBezTo>
                          <a:pt x="374" y="907"/>
                          <a:pt x="404" y="897"/>
                          <a:pt x="404" y="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V="1">
                    <a:off x="5457960" y="2246400"/>
                    <a:ext cx="5842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858" h="462">
                        <a:moveTo>
                          <a:pt x="58" y="60"/>
                        </a:moveTo>
                        <a:cubicBezTo>
                          <a:pt x="62" y="214"/>
                          <a:pt x="0" y="431"/>
                          <a:pt x="200" y="441"/>
                        </a:cubicBezTo>
                        <a:cubicBezTo>
                          <a:pt x="287" y="445"/>
                          <a:pt x="375" y="446"/>
                          <a:pt x="462" y="449"/>
                        </a:cubicBezTo>
                        <a:cubicBezTo>
                          <a:pt x="585" y="458"/>
                          <a:pt x="640" y="462"/>
                          <a:pt x="776" y="456"/>
                        </a:cubicBezTo>
                        <a:cubicBezTo>
                          <a:pt x="841" y="435"/>
                          <a:pt x="831" y="393"/>
                          <a:pt x="851" y="337"/>
                        </a:cubicBezTo>
                        <a:cubicBezTo>
                          <a:pt x="853" y="322"/>
                          <a:pt x="858" y="307"/>
                          <a:pt x="858" y="292"/>
                        </a:cubicBezTo>
                        <a:cubicBezTo>
                          <a:pt x="858" y="230"/>
                          <a:pt x="855" y="167"/>
                          <a:pt x="851" y="105"/>
                        </a:cubicBezTo>
                        <a:cubicBezTo>
                          <a:pt x="850" y="97"/>
                          <a:pt x="845" y="90"/>
                          <a:pt x="843" y="82"/>
                        </a:cubicBezTo>
                        <a:cubicBezTo>
                          <a:pt x="837" y="62"/>
                          <a:pt x="834" y="21"/>
                          <a:pt x="813" y="7"/>
                        </a:cubicBezTo>
                        <a:cubicBezTo>
                          <a:pt x="804" y="1"/>
                          <a:pt x="793" y="2"/>
                          <a:pt x="783" y="0"/>
                        </a:cubicBezTo>
                        <a:cubicBezTo>
                          <a:pt x="556" y="4"/>
                          <a:pt x="367" y="18"/>
                          <a:pt x="147" y="30"/>
                        </a:cubicBezTo>
                        <a:cubicBezTo>
                          <a:pt x="107" y="35"/>
                          <a:pt x="85" y="33"/>
                          <a:pt x="58" y="60"/>
                        </a:cubicBezTo>
                        <a:close/>
                      </a:path>
                    </a:pathLst>
                  </a:custGeom>
                  <a:solidFill>
                    <a:srgbClr val="001b52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 flipV="1">
                  <a:off x="5130360" y="137700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5097600" y="139428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5072760" y="1413360"/>
                  <a:ext cx="61200" cy="133920"/>
                </a:xfrm>
                <a:custGeom>
                  <a:avLst/>
                  <a:gdLst/>
                  <a:ahLst/>
                  <a:rect l="l" t="t" r="r" b="b"/>
                  <a:pathLst>
                    <a:path w="90" h="209">
                      <a:moveTo>
                        <a:pt x="90" y="0"/>
                      </a:moveTo>
                      <a:cubicBezTo>
                        <a:pt x="82" y="4"/>
                        <a:pt x="46" y="20"/>
                        <a:pt x="38" y="30"/>
                      </a:cubicBezTo>
                      <a:cubicBezTo>
                        <a:pt x="12" y="62"/>
                        <a:pt x="0" y="174"/>
                        <a:pt x="0" y="20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V="1">
                <a:off x="6707160" y="1294920"/>
                <a:ext cx="0" cy="1539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4876920" y="2895480"/>
              <a:ext cx="3657240" cy="0"/>
              <a:chOff x="4876920" y="2895480"/>
              <a:chExt cx="3657240" cy="0"/>
            </a:xfrm>
          </p:grpSpPr>
          <p:sp>
            <p:nvSpPr>
              <p:cNvPr id="466" name=""/>
              <p:cNvSpPr/>
              <p:nvPr/>
            </p:nvSpPr>
            <p:spPr>
              <a:xfrm>
                <a:off x="6770880" y="2895480"/>
                <a:ext cx="1763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76920" y="2895480"/>
                <a:ext cx="1763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68" name="annotations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186000" cy="41004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724280" y="457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Arial"/>
              </a:rPr>
              <a:t>Haptically-supported urgency-based turn t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038480" y="550224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Arial"/>
              </a:rPr>
              <a:t>Collaborative writing using structured anno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553080" y="2743200"/>
          <a:ext cx="32400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743200"/>
                    <a:ext cx="324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80880" y="3505320"/>
            <a:ext cx="8686800" cy="2973960"/>
            <a:chOff x="380880" y="3505320"/>
            <a:chExt cx="8686800" cy="2973960"/>
          </a:xfrm>
        </p:grpSpPr>
        <p:sp>
          <p:nvSpPr>
            <p:cNvPr id="475" name=""/>
            <p:cNvSpPr/>
            <p:nvPr/>
          </p:nvSpPr>
          <p:spPr>
            <a:xfrm>
              <a:off x="6933960" y="419112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Field Stu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1960" y="4267440"/>
              <a:ext cx="4876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Quantitative and Qualitative evaluation methodologi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200" y="38102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Exploratory Formative Stu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880" y="51055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Participatory Desig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71800" y="60804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Laboratory Stu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05360" y="54705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Ethnograph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43400" y="35053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Experimental Desig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3311640" cy="21366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09480" y="5335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Arial"/>
              </a:rPr>
              <a:t>Empirical evaluation of Info Vis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Imager: broad research mandate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41320"/>
            <a:ext cx="86868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Graphic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Visualizatio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	</a:t>
            </a:r>
            <a:r>
              <a:rPr b="0" lang="en-CA" sz="3600" spc="-1" strike="noStrike">
                <a:solidFill>
                  <a:srgbClr val="e5e5ff"/>
                </a:solidFill>
                <a:latin typeface="Trebuchet MS"/>
              </a:rPr>
              <a:t>HCI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We represent a continuum with</a:t>
            </a:r>
            <a:r>
              <a:rPr b="0" lang="en-CA" sz="3000" spc="-1" strike="noStrike">
                <a:solidFill>
                  <a:srgbClr val="ffffff"/>
                </a:solidFill>
                <a:latin typeface="Trebuchet MS"/>
              </a:rPr>
              <a:t> lots of overlap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057400"/>
            <a:ext cx="0" cy="1828800"/>
          </a:xfrm>
          <a:prstGeom prst="line">
            <a:avLst/>
          </a:prstGeom>
          <a:ln w="76320">
            <a:solidFill>
              <a:srgbClr val="e5e5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419720" y="2035080"/>
            <a:ext cx="2943000" cy="368280"/>
            <a:chOff x="4419720" y="2035080"/>
            <a:chExt cx="2943000" cy="368280"/>
          </a:xfrm>
        </p:grpSpPr>
        <p:sp>
          <p:nvSpPr>
            <p:cNvPr id="113" name=""/>
            <p:cNvSpPr/>
            <p:nvPr/>
          </p:nvSpPr>
          <p:spPr>
            <a:xfrm>
              <a:off x="4419720" y="2209680"/>
              <a:ext cx="6858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5320" y="2035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rebuchet MS"/>
                </a:rPr>
                <a:t>2 &amp; 4 PM tal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181480" y="2781360"/>
            <a:ext cx="2810160" cy="368280"/>
            <a:chOff x="5181480" y="2781360"/>
            <a:chExt cx="2810160" cy="368280"/>
          </a:xfrm>
        </p:grpSpPr>
        <p:sp>
          <p:nvSpPr>
            <p:cNvPr id="116" name=""/>
            <p:cNvSpPr/>
            <p:nvPr/>
          </p:nvSpPr>
          <p:spPr>
            <a:xfrm>
              <a:off x="5181480" y="2971800"/>
              <a:ext cx="6858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4240" y="27813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rebuchet MS"/>
                </a:rPr>
                <a:t>Tamara Munzn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76720" y="3505320"/>
            <a:ext cx="5257800" cy="916920"/>
            <a:chOff x="3276720" y="3505320"/>
            <a:chExt cx="5257800" cy="916920"/>
          </a:xfrm>
        </p:grpSpPr>
        <p:sp>
          <p:nvSpPr>
            <p:cNvPr id="119" name=""/>
            <p:cNvSpPr/>
            <p:nvPr/>
          </p:nvSpPr>
          <p:spPr>
            <a:xfrm>
              <a:off x="3276720" y="3695760"/>
              <a:ext cx="736560" cy="14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29120" y="3505320"/>
              <a:ext cx="450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rebuchet MS"/>
                </a:rPr>
                <a:t>Kelly Booth, Brian Fisher, Karon Maclean, Joanna McGrenere, Ron Rensin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Ron Rensink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86" name="Ron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787400" cy="21682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657600" y="49528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rebuchet MS"/>
                <a:hlinkClick r:id="rId2"/>
              </a:rPr>
              <a:t>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Trebuchet MS"/>
              </a:rPr>
              <a:t>HCI/Viz:</a:t>
            </a: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 courses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ad courses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rm 1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44: Human-Computer Interaction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Booth/McGrenere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33C: Visualization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Munzner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18? (ECEE): Human Interface Technology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Fels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4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rm 2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99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32: Perceptual Issues in Visual Intf’c Des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Rensink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r>
              <a:rPr b="0" lang="en-US" sz="2000" spc="-1" strike="noStrike">
                <a:solidFill>
                  <a:srgbClr val="cc3300"/>
                </a:solidFill>
                <a:latin typeface="Trebuchet MS"/>
              </a:rPr>
              <a:t>next yea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99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43: Physical Interface Design &amp; Eval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MacLean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ated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year courses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444: User Interface Design (</a:t>
            </a:r>
            <a:r>
              <a:rPr b="0" lang="en-US" sz="2000" spc="-1" strike="noStrike">
                <a:solidFill>
                  <a:srgbClr val="e5e5ff"/>
                </a:solidFill>
                <a:latin typeface="Trebuchet MS"/>
              </a:rPr>
              <a:t>1st term / MacLean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344: fall 2005?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GS 300 (both terms), 401 (next term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New specialization in HCI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HCI@UBC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http://www.icics.ubc.ca/hci/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For more Imager info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DRG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13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ndays 1-2, room TBA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ager meetings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cMillan 256 (opposite to CICSR, across Main Mall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ednesdays @ 12:30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ctronic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ttp://www.cs.ubc.ca/labs/imager/imager.htm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mager-lab@cs.ubc.c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rebuchet MS"/>
              </a:rPr>
              <a:t>where are we?</a:t>
            </a: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Forest Science Centre (FSC)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labs: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floor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faculty: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-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floor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floor CICS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05920" y="1599840"/>
            <a:ext cx="478440" cy="1143000"/>
            <a:chOff x="8305920" y="1599840"/>
            <a:chExt cx="478440" cy="1143000"/>
          </a:xfrm>
        </p:grpSpPr>
        <p:sp>
          <p:nvSpPr>
            <p:cNvPr id="124" name=""/>
            <p:cNvSpPr/>
            <p:nvPr/>
          </p:nvSpPr>
          <p:spPr>
            <a:xfrm flipV="1">
              <a:off x="8305920" y="1599840"/>
              <a:ext cx="0" cy="1143000"/>
            </a:xfrm>
            <a:prstGeom prst="line">
              <a:avLst/>
            </a:prstGeom>
            <a:ln w="76320">
              <a:solidFill>
                <a:srgbClr val="e5e5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4040" y="194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347720" y="441972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y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2036520" y="42127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828800"/>
            <a:ext cx="1677960" cy="2590920"/>
          </a:xfrm>
          <a:custGeom>
            <a:avLst/>
            <a:gdLst/>
            <a:ahLst/>
            <a:rect l="l" t="t" r="r" b="b"/>
            <a:pathLst>
              <a:path w="528" h="816">
                <a:moveTo>
                  <a:pt x="0" y="0"/>
                </a:moveTo>
                <a:lnTo>
                  <a:pt x="528" y="0"/>
                </a:lnTo>
                <a:lnTo>
                  <a:pt x="528" y="240"/>
                </a:lnTo>
                <a:lnTo>
                  <a:pt x="428" y="248"/>
                </a:lnTo>
                <a:lnTo>
                  <a:pt x="432" y="816"/>
                </a:lnTo>
                <a:lnTo>
                  <a:pt x="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ebebeb"/>
          </a:solidFill>
          <a:ln w="1908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973760"/>
            <a:ext cx="5333760" cy="1554120"/>
          </a:xfrm>
          <a:custGeom>
            <a:avLst/>
            <a:gdLst/>
            <a:ahLst/>
            <a:rect l="l" t="t" r="r" b="b"/>
            <a:pathLst>
              <a:path w="3360" h="979">
                <a:moveTo>
                  <a:pt x="0" y="5"/>
                </a:moveTo>
                <a:lnTo>
                  <a:pt x="1757" y="6"/>
                </a:lnTo>
                <a:lnTo>
                  <a:pt x="1757" y="774"/>
                </a:lnTo>
                <a:lnTo>
                  <a:pt x="2237" y="774"/>
                </a:lnTo>
                <a:lnTo>
                  <a:pt x="2237" y="0"/>
                </a:lnTo>
                <a:lnTo>
                  <a:pt x="3352" y="0"/>
                </a:lnTo>
                <a:lnTo>
                  <a:pt x="3360" y="979"/>
                </a:lnTo>
                <a:lnTo>
                  <a:pt x="1573" y="978"/>
                </a:lnTo>
                <a:lnTo>
                  <a:pt x="0" y="978"/>
                </a:lnTo>
                <a:lnTo>
                  <a:pt x="0" y="5"/>
                </a:lnTo>
                <a:close/>
              </a:path>
            </a:pathLst>
          </a:custGeom>
          <a:solidFill>
            <a:srgbClr val="ebebeb"/>
          </a:solidFill>
          <a:ln w="1908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b52"/>
                </a:solidFill>
                <a:latin typeface="Arial"/>
              </a:rPr>
              <a:t>CICS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106600" y="5561280"/>
            <a:ext cx="1371600" cy="45972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Im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813280"/>
            <a:ext cx="1371600" cy="678600"/>
          </a:xfrm>
          <a:prstGeom prst="rect">
            <a:avLst/>
          </a:prstGeom>
          <a:noFill/>
          <a:ln w="38160">
            <a:solidFill>
              <a:srgbClr val="001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b52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b52"/>
                </a:solidFill>
                <a:latin typeface="Arial"/>
              </a:rPr>
              <a:t>g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Arial"/>
              </a:rPr>
              <a:t>F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920" y="1828800"/>
            <a:ext cx="8381880" cy="4800600"/>
            <a:chOff x="304920" y="1828800"/>
            <a:chExt cx="8381880" cy="4800600"/>
          </a:xfrm>
        </p:grpSpPr>
        <p:grpSp>
          <p:nvGrpSpPr>
            <p:cNvPr id="135" name=""/>
            <p:cNvGrpSpPr/>
            <p:nvPr/>
          </p:nvGrpSpPr>
          <p:grpSpPr>
            <a:xfrm>
              <a:off x="5029200" y="1828800"/>
              <a:ext cx="3657600" cy="2590920"/>
              <a:chOff x="5029200" y="1828800"/>
              <a:chExt cx="3657600" cy="25909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29200" y="1828800"/>
                <a:ext cx="1066680" cy="2590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4801680" y="2970360"/>
                <a:ext cx="1371600" cy="459720"/>
              </a:xfrm>
              <a:prstGeom prst="rect">
                <a:avLst/>
              </a:prstGeom>
              <a:noFill/>
              <a:ln w="381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cc"/>
                    </a:solidFill>
                    <a:latin typeface="Arial"/>
                  </a:rPr>
                  <a:t>Image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00800" y="2666880"/>
                <a:ext cx="2286000" cy="14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00"/>
                    </a:solidFill>
                    <a:latin typeface="Trebuchet MS"/>
                  </a:rPr>
                  <a:t>Christmas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rebuchet MS"/>
                  </a:rPr>
                  <a:t>Lab + faculty 4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rebuchet MS"/>
                  </a:rPr>
                  <a:t>th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rebuchet MS"/>
                  </a:rPr>
                  <a:t> &amp; 5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rebuchet MS"/>
                  </a:rPr>
                  <a:t>th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rebuchet MS"/>
                  </a:rPr>
                  <a:t> floor ICICS/CS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04920" y="2361960"/>
              <a:ext cx="2057400" cy="3276360"/>
              <a:chOff x="304920" y="2361960"/>
              <a:chExt cx="2057400" cy="3276360"/>
            </a:xfrm>
          </p:grpSpPr>
          <p:sp>
            <p:nvSpPr>
              <p:cNvPr id="140" name=""/>
              <p:cNvSpPr/>
              <p:nvPr/>
            </p:nvSpPr>
            <p:spPr>
              <a:xfrm>
                <a:off x="304920" y="2438280"/>
                <a:ext cx="1981080" cy="312444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04920" y="2361960"/>
                <a:ext cx="2057400" cy="32763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486400" y="4876920"/>
              <a:ext cx="609480" cy="1752480"/>
              <a:chOff x="5486400" y="4876920"/>
              <a:chExt cx="609480" cy="175248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5486400" y="4952520"/>
                <a:ext cx="609480" cy="160020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5562360" y="4876920"/>
                <a:ext cx="533160" cy="175248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31240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b52"/>
                </a:solidFill>
                <a:latin typeface="Arial"/>
              </a:rPr>
              <a:t>F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rebuchet MS"/>
              </a:rPr>
              <a:t>Let the 3 minute madness begin…</a:t>
            </a:r>
            <a:endParaRPr b="1" lang="en-US" sz="4000" spc="-1" strike="noStrike">
              <a:solidFill>
                <a:srgbClr val="e5e5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Karon Maclean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pic>
        <p:nvPicPr>
          <p:cNvPr id="148" name="macleanPic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57600" y="49528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rebuchet MS"/>
                <a:hlinkClick r:id="rId2"/>
              </a:rPr>
              <a:t>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Brian Fisher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2307960" cy="307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9880" y="480060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rebuchet MS"/>
                <a:hlinkClick r:id="rId2"/>
              </a:rPr>
              <a:t>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Tamara Munzner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5" name="tmm.inoffice.150x100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Trebuchet MS"/>
              </a:rPr>
              <a:t>Bioinformatics Visualization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DNA sequences, phylogenetic tre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James Slack, Kristian Hildebrand (remot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evaluation of bioinformatics vis syste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Dmitry Nekrasovski, Adam Bodna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08280" y="2514600"/>
            <a:ext cx="3692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Trebuchet MS"/>
              </a:rPr>
              <a:t>Environmental Sustainability Vis</a:t>
            </a:r>
            <a:endParaRPr b="1" lang="en-US" sz="4400" spc="-1" strike="noStrike">
              <a:solidFill>
                <a:srgbClr val="e5e5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rebuchet MS"/>
              </a:rPr>
              <a:t>visualization of space of future scenario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rebuchet MS"/>
              </a:rPr>
              <a:t>Matt Williams (graduated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1669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6:14:06Z</dcterms:created>
  <dc:creator>Leah Findlater</dc:creator>
  <dc:description/>
  <dc:language>en-US</dc:language>
  <cp:lastModifiedBy>Joanna</cp:lastModifiedBy>
  <dcterms:modified xsi:type="dcterms:W3CDTF">2004-09-07T22:40:07Z</dcterms:modified>
  <cp:revision>82</cp:revision>
  <dc:subject/>
  <dc:title>A Comparison of Static, Adaptive, and Adaptable Menus</dc:title>
</cp:coreProperties>
</file>