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5FF-CF96-4822-B380-5E39CA94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584-5435-415B-A111-C5D6BF65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147-BD4A-438E-9E03-AE8D7B17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1D3-D992-4B7F-A6B9-8C196828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FF7-7B58-44E5-8962-A511D0E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2B3-D793-47E8-A85F-0D30BF2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886-6ECF-44C0-B6A1-00696C86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353-C761-460D-AC74-8E959398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B8D-01AB-45AA-9C4F-84AC5402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FFF-D7BE-435B-A99E-F5AAD68A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14E-4D34-4DC1-97A8-2267AA8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6D5-7B53-4594-8CEE-838D8CB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053-4574-4D80-9D73-2995C6252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1880" y="91440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e500"/>
                </a:solidFill>
                <a:latin typeface="Arial"/>
              </a:rPr>
              <a:t>Research Over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7960" y="190512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n Rens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18880" y="309708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93720" y="36320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Psych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3276720"/>
            <a:ext cx="7391160" cy="3200400"/>
          </a:xfrm>
          <a:prstGeom prst="rect">
            <a:avLst/>
          </a:prstGeom>
          <a:solidFill>
            <a:srgbClr val="262638"/>
          </a:solidFill>
          <a:ln w="9360">
            <a:solidFill>
              <a:srgbClr val="21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720" y="6858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Arial"/>
              </a:rPr>
              <a:t>Main research interest:  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9920" y="15238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) Human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2520" y="220968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) Advanced Visual Displays/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6280" y="458136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5800" y="4581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s/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948120"/>
            <a:ext cx="3962520" cy="533520"/>
          </a:xfrm>
          <a:custGeom>
            <a:avLst/>
            <a:gdLst/>
            <a:ahLst/>
            <a:rect l="l" t="t" r="r" b="b"/>
            <a:pathLst>
              <a:path w="2496" h="336">
                <a:moveTo>
                  <a:pt x="0" y="336"/>
                </a:moveTo>
                <a:cubicBezTo>
                  <a:pt x="236" y="216"/>
                  <a:pt x="472" y="96"/>
                  <a:pt x="768" y="48"/>
                </a:cubicBezTo>
                <a:cubicBezTo>
                  <a:pt x="1064" y="0"/>
                  <a:pt x="1488" y="8"/>
                  <a:pt x="1776" y="48"/>
                </a:cubicBezTo>
                <a:cubicBezTo>
                  <a:pt x="2064" y="88"/>
                  <a:pt x="2280" y="188"/>
                  <a:pt x="2496" y="288"/>
                </a:cubicBezTo>
              </a:path>
            </a:pathLst>
          </a:custGeom>
          <a:noFill/>
          <a:ln w="38160">
            <a:solidFill>
              <a:srgbClr val="ff0c1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9880" y="341784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pplication to Display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14600" y="5090400"/>
            <a:ext cx="3962520" cy="685800"/>
          </a:xfrm>
          <a:custGeom>
            <a:avLst/>
            <a:gdLst/>
            <a:ahLst/>
            <a:rect l="l" t="t" r="r" b="b"/>
            <a:pathLst>
              <a:path w="2496" h="336">
                <a:moveTo>
                  <a:pt x="0" y="336"/>
                </a:moveTo>
                <a:cubicBezTo>
                  <a:pt x="236" y="216"/>
                  <a:pt x="472" y="96"/>
                  <a:pt x="768" y="48"/>
                </a:cubicBezTo>
                <a:cubicBezTo>
                  <a:pt x="1064" y="0"/>
                  <a:pt x="1488" y="8"/>
                  <a:pt x="1776" y="48"/>
                </a:cubicBezTo>
                <a:cubicBezTo>
                  <a:pt x="2064" y="88"/>
                  <a:pt x="2280" y="188"/>
                  <a:pt x="2496" y="288"/>
                </a:cubicBezTo>
              </a:path>
            </a:pathLst>
          </a:custGeom>
          <a:noFill/>
          <a:ln w="38160">
            <a:solidFill>
              <a:srgbClr val="ff0c1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25720" y="58561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nderstanding 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5760" y="10666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Arial"/>
              </a:rPr>
              <a:t>Visual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8160" y="1676520"/>
            <a:ext cx="5792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derstanding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do, how does it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&amp; consciou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240" y="4317840"/>
            <a:ext cx="822924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pplication to Visual Display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sign of effective animation shortcu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ople won’t notice the dif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ork with Jason Harrison &amp; Michiel van de Pa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SIGGRAPH ‘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0080" y="45720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w exampl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64680" y="3127320"/>
            <a:ext cx="68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have very limited ability to see dyna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s (even though it doesn’t seem this w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5040" y="7351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Arial"/>
              </a:rPr>
              <a:t>Representation of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2520" y="1573200"/>
            <a:ext cx="8265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derstanding Space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kind of spatial representation is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invariant to disturbances in size, orientation, et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40400" cy="414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334280" cy="4143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2680" y="5181480"/>
            <a:ext cx="651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: Look at speed to find a T-shaped 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e if it is affected by changes in siz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entation, etc, made during search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4680" y="914400"/>
            <a:ext cx="73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have high degree of invariance to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ize, and to nonlinear “fisheye” transform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8600" y="2590920"/>
            <a:ext cx="844236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pplication to Visual Display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of best “zooming” transform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ffective information visualization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ork with Tamara Munzner &amp; Keith L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APGV ‘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8280" y="6858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e500"/>
                </a:solidFill>
                <a:latin typeface="Arial"/>
              </a:rPr>
              <a:t>Pro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8920" y="1573200"/>
            <a:ext cx="737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) Nissan (w/ lots of peo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dvanced automobile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240" y="2792520"/>
            <a:ext cx="79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) IRIS (w/ Karon MacLean, Sid Fels, et a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terface transpar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4114800"/>
            <a:ext cx="874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) ISCAP (w/ Kelly Booth, Brian Fisher, et a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ime and safety-critical visual disp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4:29:46Z</dcterms:created>
  <dc:creator>Ronald Rensink</dc:creator>
  <dc:description/>
  <dc:language>en-US</dc:language>
  <cp:lastModifiedBy>Joanna</cp:lastModifiedBy>
  <dcterms:modified xsi:type="dcterms:W3CDTF">2004-09-07T15:15:26Z</dcterms:modified>
  <cp:revision>83</cp:revision>
  <dc:subject/>
  <dc:title>PowerPoint Presentation</dc:title>
</cp:coreProperties>
</file>