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1C1-768C-40CB-9C96-6D4C9E20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BC5-B64A-4BED-9E9B-5CE39BBC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AF8-E698-4802-8EAA-418949A3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B57-C108-443C-87BB-7F3D1C34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A4D3-1E2F-40B0-8F58-47B40C78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F352-8276-48BB-A142-E1EE32F0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FADA-9FE5-4508-973C-C1409806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8AFA-E034-4F0D-9D1B-2166DD5D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2802-434C-4FED-8CC1-819146D2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3B86-9EA5-4F16-9C7F-63A11C68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91FF-24EC-4DA5-B9AC-9F10F0C1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AD4-2E5E-4E80-992A-FDE41F27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D91A-C300-4408-9D6C-BA0C9718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BA6C-C7F0-4F46-B353-33A76901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2274-7EF4-4865-9B92-7E6EE6DE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B728-9503-4F1C-A8B4-E7EC33F7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3191-D1CA-49AB-A577-EE42E94E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5EFF-4BA1-43AF-AE7B-A58BB8E2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A588-A922-485F-88A3-7227056B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FD0-6D53-4610-8D08-F26D830D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F0B-CDB1-4D62-B50F-8B73C201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CE60-CE97-40A3-91CD-9ED5D029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81BA-510D-46E1-811B-A6586FDE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E9FA-38AA-4144-8F82-E7213A93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811F-221A-418D-8B23-00428FEBC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1155-662B-46FA-AE5B-D15EFD120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al &amp; multimodal user inte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248520" y="5105520"/>
            <a:ext cx="1752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ewterdoor" descr=""/>
          <p:cNvPicPr/>
          <p:nvPr/>
        </p:nvPicPr>
        <p:blipFill>
          <a:blip r:embed="rId1"/>
          <a:stretch/>
        </p:blipFill>
        <p:spPr>
          <a:xfrm>
            <a:off x="609480" y="1697040"/>
            <a:ext cx="556272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problems I’m interested in involve at least one of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743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pplication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interfac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ceptualizing i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5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huma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erceiving 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echa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king it hap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1598760"/>
            <a:ext cx="579132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ing application control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v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modal perceptual psyc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&amp; multitas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 analysis in complex tasks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can you tell if it’s help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tic languag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can feels me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sensory display design &amp;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ftwar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d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syste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foc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tic feedback is good for </a:t>
            </a: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expre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inds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where other senses are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overloa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hysical interfaces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out into the wor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 of the lab and off the 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225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beautiful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heap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2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actil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handfunny" descr=""/>
          <p:cNvPicPr/>
          <p:nvPr/>
        </p:nvPicPr>
        <p:blipFill>
          <a:blip r:embed="rId1"/>
          <a:stretch/>
        </p:blipFill>
        <p:spPr>
          <a:xfrm>
            <a:off x="6629400" y="40384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rthogForce" descr=""/>
          <p:cNvPicPr/>
          <p:nvPr/>
        </p:nvPicPr>
        <p:blipFill>
          <a:blip r:embed="rId1"/>
          <a:stretch/>
        </p:blipFill>
        <p:spPr>
          <a:xfrm>
            <a:off x="3505320" y="4378320"/>
            <a:ext cx="1676160" cy="1565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y Perception &amp; Interaction Research Group:</a:t>
            </a:r>
            <a:br>
              <a:rPr sz="2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IN l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6172200"/>
            <a:ext cx="50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6666"/>
                </a:solidFill>
                <a:latin typeface="Arial"/>
              </a:rPr>
              <a:t>http://www.cs.ubc.ca/labs/spin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DGroove_Marlin11_small" descr=""/>
          <p:cNvPicPr/>
          <p:nvPr/>
        </p:nvPicPr>
        <p:blipFill>
          <a:blip r:embed="rId2"/>
          <a:stretch/>
        </p:blipFill>
        <p:spPr>
          <a:xfrm>
            <a:off x="4267080" y="1582560"/>
            <a:ext cx="3200400" cy="2379960"/>
          </a:xfrm>
          <a:prstGeom prst="rect">
            <a:avLst/>
          </a:prstGeom>
          <a:ln w="0">
            <a:noFill/>
          </a:ln>
        </p:spPr>
      </p:pic>
      <p:pic>
        <p:nvPicPr>
          <p:cNvPr id="95" name="pushBump" descr=""/>
          <p:cNvPicPr/>
          <p:nvPr/>
        </p:nvPicPr>
        <p:blipFill>
          <a:blip r:embed="rId3"/>
          <a:stretch/>
        </p:blipFill>
        <p:spPr>
          <a:xfrm>
            <a:off x="5105520" y="4560840"/>
            <a:ext cx="2209680" cy="1077840"/>
          </a:xfrm>
          <a:prstGeom prst="rect">
            <a:avLst/>
          </a:prstGeom>
          <a:ln w="0">
            <a:noFill/>
          </a:ln>
        </p:spPr>
      </p:pic>
      <p:pic>
        <p:nvPicPr>
          <p:cNvPr id="96" name="full%20door" descr="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631800" y="3048120"/>
            <a:ext cx="2530440" cy="3373200"/>
          </a:xfrm>
          <a:prstGeom prst="rect">
            <a:avLst/>
          </a:prstGeom>
          <a:ln w="0">
            <a:noFill/>
          </a:ln>
        </p:spPr>
      </p:pic>
      <p:pic>
        <p:nvPicPr>
          <p:cNvPr id="97" name="tknob-asm-near" descr=""/>
          <p:cNvPicPr/>
          <p:nvPr/>
        </p:nvPicPr>
        <p:blipFill>
          <a:blip r:embed="rId5">
            <a:lum bright="10000"/>
          </a:blip>
          <a:stretch/>
        </p:blipFill>
        <p:spPr>
          <a:xfrm>
            <a:off x="914400" y="4724280"/>
            <a:ext cx="2362320" cy="177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slide_car" descr=""/>
          <p:cNvPicPr/>
          <p:nvPr/>
        </p:nvPicPr>
        <p:blipFill>
          <a:blip r:embed="rId6"/>
          <a:stretch/>
        </p:blipFill>
        <p:spPr>
          <a:xfrm>
            <a:off x="1150920" y="914400"/>
            <a:ext cx="151596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textEmphasis" descr=""/>
          <p:cNvPicPr/>
          <p:nvPr/>
        </p:nvPicPr>
        <p:blipFill>
          <a:blip r:embed="rId7"/>
          <a:stretch/>
        </p:blipFill>
        <p:spPr>
          <a:xfrm>
            <a:off x="7543800" y="1143000"/>
            <a:ext cx="1482840" cy="5010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505320" y="4191120"/>
            <a:ext cx="39621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Joanna</cp:lastModifiedBy>
  <dcterms:modified xsi:type="dcterms:W3CDTF">2004-09-07T04:48:54Z</dcterms:modified>
  <cp:revision>254</cp:revision>
  <dc:subject/>
  <dc:title>Application-Centered Physical Interface Design</dc:title>
</cp:coreProperties>
</file>