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6000" y="1301760"/>
            <a:ext cx="85042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6000" y="4203720"/>
            <a:ext cx="85042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000" y="130176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3800" y="130176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6000" y="420372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3800" y="420372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6000" y="1301760"/>
            <a:ext cx="273816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1320" y="1301760"/>
            <a:ext cx="273816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7000" y="1301760"/>
            <a:ext cx="273816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6000" y="4203720"/>
            <a:ext cx="273816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1320" y="4203720"/>
            <a:ext cx="273816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7000" y="4203720"/>
            <a:ext cx="273816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06000" y="1301760"/>
            <a:ext cx="8504280" cy="55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6000" y="1301760"/>
            <a:ext cx="850428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6000" y="1301760"/>
            <a:ext cx="415008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800" y="1301760"/>
            <a:ext cx="415008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97960" y="0"/>
            <a:ext cx="795204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898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6000" y="130176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301760"/>
            <a:ext cx="415008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6000" y="420372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6000" y="1301760"/>
            <a:ext cx="8504280" cy="55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6000" y="1301760"/>
            <a:ext cx="415008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800" y="130176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800" y="420372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6000" y="130176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30176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6000" y="4203720"/>
            <a:ext cx="85042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6000" y="1301760"/>
            <a:ext cx="85042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06000" y="4203720"/>
            <a:ext cx="85042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6000" y="130176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800" y="130176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6000" y="420372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800" y="420372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6000" y="1301760"/>
            <a:ext cx="273816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81320" y="1301760"/>
            <a:ext cx="273816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7000" y="1301760"/>
            <a:ext cx="273816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06000" y="4203720"/>
            <a:ext cx="273816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81320" y="4203720"/>
            <a:ext cx="273816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7000" y="4203720"/>
            <a:ext cx="273816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6000" y="1301760"/>
            <a:ext cx="850428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000" y="1301760"/>
            <a:ext cx="415008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3800" y="1301760"/>
            <a:ext cx="415008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97960" y="0"/>
            <a:ext cx="795204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898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6000" y="130176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301760"/>
            <a:ext cx="415008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6000" y="420372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6000" y="1301760"/>
            <a:ext cx="415008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800" y="130176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3800" y="420372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6000" y="130176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800" y="1301760"/>
            <a:ext cx="41500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6000" y="4203720"/>
            <a:ext cx="850428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98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79520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000" y="1301760"/>
            <a:ext cx="850428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98"/>
              </a:lnSpc>
              <a:spcAft>
                <a:spcPts val="601"/>
              </a:spcAft>
              <a:buClr>
                <a:srgbClr val="ffff00"/>
              </a:buClr>
              <a:buSzPct val="60000"/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ts val="3898"/>
              </a:lnSpc>
              <a:spcAft>
                <a:spcPts val="601"/>
              </a:spcAft>
              <a:buClr>
                <a:srgbClr val="ffff00"/>
              </a:buClr>
              <a:buFont typeface="Σψμβολ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98"/>
              </a:lnSpc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98"/>
              </a:lnSpc>
              <a:spcAft>
                <a:spcPts val="601"/>
              </a:spcAft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98"/>
              </a:lnSpc>
              <a:spcAft>
                <a:spcPts val="6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98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98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656400" y="6369120"/>
            <a:ext cx="17762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116880" y="6451560"/>
            <a:ext cx="290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ide by Ron Rens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31560" y="1606320"/>
            <a:ext cx="84661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SzPct val="60000"/>
              <a:buFont typeface="Wingdings 3" charset="2"/>
              <a:buChar char=""/>
              <a:tabLst>
                <a:tab algn="l" pos="343080"/>
                <a:tab algn="l" pos="355680"/>
                <a:tab algn="l" pos="711360"/>
                <a:tab algn="l" pos="743040"/>
                <a:tab algn="l" pos="914400"/>
                <a:tab algn="l" pos="1066680"/>
                <a:tab algn="l" pos="1422360"/>
                <a:tab algn="l" pos="1778040"/>
                <a:tab algn="l" pos="1828800"/>
                <a:tab algn="l" pos="2133720"/>
                <a:tab algn="l" pos="2489040"/>
                <a:tab algn="l" pos="2743200"/>
                <a:tab algn="l" pos="2844720"/>
                <a:tab algn="l" pos="3200400"/>
                <a:tab algn="l" pos="3556080"/>
                <a:tab algn="l" pos="365760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earch in human interaction with rich 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7480" indent="-36864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Σψμβολ"/>
              <a:buChar char="•"/>
              <a:tabLst>
                <a:tab algn="l" pos="343080"/>
                <a:tab algn="l" pos="355680"/>
                <a:tab algn="l" pos="711360"/>
                <a:tab algn="l" pos="743040"/>
                <a:tab algn="l" pos="914400"/>
                <a:tab algn="l" pos="1066680"/>
                <a:tab algn="l" pos="1422360"/>
                <a:tab algn="l" pos="1778040"/>
                <a:tab algn="l" pos="1828800"/>
                <a:tab algn="l" pos="2133720"/>
                <a:tab algn="l" pos="2489040"/>
                <a:tab algn="l" pos="2743200"/>
                <a:tab algn="l" pos="2844720"/>
                <a:tab algn="l" pos="3200400"/>
                <a:tab algn="l" pos="3556080"/>
                <a:tab algn="l" pos="365760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ial Science of collaboration and communication (e.g. psycholinguistic pragmatics, social and distributed cogn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7480" indent="-36864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Σψμβολ"/>
              <a:buChar char="•"/>
              <a:tabLst>
                <a:tab algn="l" pos="343080"/>
                <a:tab algn="l" pos="355680"/>
                <a:tab algn="l" pos="711360"/>
                <a:tab algn="l" pos="743040"/>
                <a:tab algn="l" pos="914400"/>
                <a:tab algn="l" pos="1066680"/>
                <a:tab algn="l" pos="1422360"/>
                <a:tab algn="l" pos="1778040"/>
                <a:tab algn="l" pos="1828800"/>
                <a:tab algn="l" pos="2133720"/>
                <a:tab algn="l" pos="2489040"/>
                <a:tab algn="l" pos="2743200"/>
                <a:tab algn="l" pos="2844720"/>
                <a:tab algn="l" pos="3200400"/>
                <a:tab algn="l" pos="3556080"/>
                <a:tab algn="l" pos="365760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gnitive Science of interaction with rich media (perceptual, situated &amp; enactive cognition, functional neuroscienc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Aft>
                <a:spcPts val="12801"/>
              </a:spcAft>
              <a:buClr>
                <a:srgbClr val="ffff00"/>
              </a:buClr>
              <a:buSzPct val="60000"/>
              <a:buFont typeface="Wingdings 3" charset="2"/>
              <a:buChar char=""/>
              <a:tabLst>
                <a:tab algn="l" pos="343080"/>
                <a:tab algn="l" pos="355680"/>
                <a:tab algn="l" pos="711360"/>
                <a:tab algn="l" pos="743040"/>
                <a:tab algn="l" pos="914400"/>
                <a:tab algn="l" pos="1066680"/>
                <a:tab algn="l" pos="1422360"/>
                <a:tab algn="l" pos="1778040"/>
                <a:tab algn="l" pos="1828800"/>
                <a:tab algn="l" pos="2133720"/>
                <a:tab algn="l" pos="2489040"/>
                <a:tab algn="l" pos="2743200"/>
                <a:tab algn="l" pos="2844720"/>
                <a:tab algn="l" pos="3200400"/>
                <a:tab algn="l" pos="3556080"/>
                <a:tab algn="l" pos="365760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 of systems whose purpose cognitive, social or experient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35040" y="507960"/>
            <a:ext cx="3884400" cy="80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873920" y="50760"/>
            <a:ext cx="1143000" cy="1523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130720" y="152280"/>
            <a:ext cx="2705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ffef"/>
                </a:solidFill>
                <a:latin typeface="Arial"/>
              </a:rPr>
              <a:t>Brian F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ffef"/>
                </a:solidFill>
                <a:latin typeface="Arial"/>
              </a:rPr>
              <a:t>fisher@cs.ubc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ffef"/>
                </a:solidFill>
                <a:latin typeface="Arial"/>
              </a:rPr>
              <a:t>www.cs.ubc.ca~f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0600" y="-81360"/>
            <a:ext cx="764676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lnSpc>
                <a:spcPts val="4499"/>
              </a:lnSpc>
              <a:spcAft>
                <a:spcPts val="1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Project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6040" y="818640"/>
            <a:ext cx="8237520" cy="58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ts val="3197"/>
              </a:lnSpc>
              <a:spcAft>
                <a:spcPts val="499"/>
              </a:spcAft>
              <a:buClr>
                <a:srgbClr val="ffff00"/>
              </a:buClr>
              <a:buSzPct val="60000"/>
              <a:buFont typeface="Wingdings 3" charset="2"/>
              <a:buChar char="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sychology and interactio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-412920">
              <a:lnSpc>
                <a:spcPts val="2900"/>
              </a:lnSpc>
              <a:spcAft>
                <a:spcPts val="400"/>
              </a:spcAft>
              <a:buClr>
                <a:srgbClr val="ffff00"/>
              </a:buClr>
              <a:buFont typeface="Σψμβολ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ereo displays and human perception  (GM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-412920">
              <a:lnSpc>
                <a:spcPts val="2900"/>
              </a:lnSpc>
              <a:spcAft>
                <a:spcPts val="400"/>
              </a:spcAft>
              <a:buClr>
                <a:srgbClr val="ffff00"/>
              </a:buClr>
              <a:buFont typeface="Σψμβολ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opotentials (heart rate, GSR, EEG) in HCI (SAGE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ts val="3197"/>
              </a:lnSpc>
              <a:spcAft>
                <a:spcPts val="499"/>
              </a:spcAft>
              <a:buClr>
                <a:srgbClr val="ffff00"/>
              </a:buClr>
              <a:buSzPct val="60000"/>
              <a:buFont typeface="Wingdings 3" charset="2"/>
              <a:buChar char="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bicomput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-412920">
              <a:lnSpc>
                <a:spcPts val="2900"/>
              </a:lnSpc>
              <a:spcAft>
                <a:spcPts val="400"/>
              </a:spcAft>
              <a:buClr>
                <a:srgbClr val="ffff00"/>
              </a:buClr>
              <a:buFont typeface="Σψμβολ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mart Seat haptic interface for enhanced driving experience (Nissan)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ts val="3197"/>
              </a:lnSpc>
              <a:spcAft>
                <a:spcPts val="499"/>
              </a:spcAft>
              <a:buClr>
                <a:srgbClr val="ffff00"/>
              </a:buClr>
              <a:buSzPct val="60000"/>
              <a:buFont typeface="Wingdings 3" charset="2"/>
              <a:buChar char="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active Ar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-412920">
              <a:lnSpc>
                <a:spcPts val="2900"/>
              </a:lnSpc>
              <a:spcAft>
                <a:spcPts val="400"/>
              </a:spcAft>
              <a:buClr>
                <a:srgbClr val="ffff00"/>
              </a:buClr>
              <a:buFont typeface="Σψμβολ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FU School of Interactive Arts and Technolog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-412920">
              <a:lnSpc>
                <a:spcPts val="2900"/>
              </a:lnSpc>
              <a:spcAft>
                <a:spcPts val="400"/>
              </a:spcAft>
              <a:buClr>
                <a:srgbClr val="ffff00"/>
              </a:buClr>
              <a:buFont typeface="Σψμβολ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nff New Media Institute, New Media Collaboration Studies Networ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-412920">
              <a:lnSpc>
                <a:spcPts val="2900"/>
              </a:lnSpc>
              <a:spcAft>
                <a:spcPts val="400"/>
              </a:spcAft>
              <a:buClr>
                <a:srgbClr val="ffff00"/>
              </a:buClr>
              <a:buFont typeface="Σψμβολ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tional Film Board of Canada collabor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ts val="3197"/>
              </a:lnSpc>
              <a:spcAft>
                <a:spcPts val="499"/>
              </a:spcAft>
              <a:buClr>
                <a:srgbClr val="ffff00"/>
              </a:buClr>
              <a:buSzPct val="60000"/>
              <a:buFont typeface="Wingdings 3" charset="2"/>
              <a:buChar char="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aborative learning and 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-412920">
              <a:lnSpc>
                <a:spcPts val="2900"/>
              </a:lnSpc>
              <a:spcAft>
                <a:spcPts val="400"/>
              </a:spcAft>
              <a:buClr>
                <a:srgbClr val="ffff00"/>
              </a:buClr>
              <a:buFont typeface="Σψμβολ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aleidoscope (EU 6th Framework), Canarie: “Virtual Ph.D.” projec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-412920">
              <a:lnSpc>
                <a:spcPts val="2900"/>
              </a:lnSpc>
              <a:spcAft>
                <a:spcPts val="400"/>
              </a:spcAft>
              <a:buClr>
                <a:srgbClr val="ffff00"/>
              </a:buClr>
              <a:buFont typeface="Σψμβολ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posed HCI and Security projec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-412920">
              <a:lnSpc>
                <a:spcPts val="2900"/>
              </a:lnSpc>
              <a:spcAft>
                <a:spcPts val="400"/>
              </a:spcAft>
              <a:buClr>
                <a:srgbClr val="ffff00"/>
              </a:buClr>
              <a:buFont typeface="Σψμβολ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posed collaboration in musical performance project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0">
              <a:lnSpc>
                <a:spcPts val="2900"/>
              </a:lnSpc>
              <a:spcAft>
                <a:spcPts val="400"/>
              </a:spcAft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70120" indent="0">
              <a:lnSpc>
                <a:spcPts val="2900"/>
              </a:lnSpc>
              <a:spcAft>
                <a:spcPts val="400"/>
              </a:spcAft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anna</cp:lastModifiedBy>
  <dcterms:modified xsi:type="dcterms:W3CDTF">2004-09-03T22:28:09Z</dcterms:modified>
  <cp:revision>3</cp:revision>
  <dc:subject/>
  <dc:title>PowerPoint Presentation</dc:title>
</cp:coreProperties>
</file>