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74A-EB6F-410F-8A00-8BE99707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5FF-2A82-490E-A97E-C0571A4E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DF4-B4DE-4157-AB99-468BF89F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92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90588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519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477-5851-4222-A02D-4E56A59F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D97-34A5-4A80-8284-3B9DD420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AF0-26C5-41FC-9099-C2ADC12F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020-9376-441B-8EB4-1F810615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F37-62C1-448F-8534-B29171D3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92560" y="2925720"/>
            <a:ext cx="3730608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388-CF75-413F-8C19-D2B8FFAC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B13-F821-4699-AE84-D2CD6465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541-A609-4753-828D-0B7E205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1CD-0718-4026-B91F-E898143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99000"/>
          </a:bodyPr>
          <a:p>
            <a:pPr marL="1629720" indent="-162972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9440" indent="-13575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3132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0320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4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5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6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9256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92680"/>
            <a:ext cx="1390032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89C9FFB0-8B8E-487D-AF5D-3FD87A9B5810}" type="slidenum"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2057400"/>
            <a:ext cx="386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6633"/>
                </a:solidFill>
                <a:latin typeface="AvantGarde"/>
              </a:rPr>
              <a:t>GEA: a Toolkit for Gene Expression Analys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4006800"/>
            <a:ext cx="2987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vantGarde"/>
              </a:rPr>
              <a:t>Dr. Raymond Ng</a:t>
            </a:r>
            <a:r>
              <a:rPr b="1" lang="en-US" sz="4800" spc="-1" strike="noStrike" baseline="30000">
                <a:solidFill>
                  <a:srgbClr val="cc9900"/>
                </a:solidFill>
                <a:latin typeface="AvantGarde"/>
              </a:rPr>
              <a:t>*</a:t>
            </a:r>
            <a:r>
              <a:rPr b="1" lang="en-US" sz="4800" spc="-1" strike="noStrike">
                <a:solidFill>
                  <a:srgbClr val="cc9900"/>
                </a:solidFill>
                <a:latin typeface="AvantGarde"/>
              </a:rPr>
              <a:t>, Jessica M. Phan - Department of Computer Science, University of British Columb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vantGarde"/>
              </a:rPr>
              <a:t>Dr. Steven Jones – BC Genome Science Cent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8001000"/>
            <a:ext cx="96012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6781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1" lang="en-US" sz="6600" spc="-1" strike="noStrike">
                <a:solidFill>
                  <a:srgbClr val="db824b"/>
                </a:solidFill>
                <a:latin typeface="AvantGarde"/>
              </a:rPr>
              <a:t>Motiv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8153280"/>
            <a:ext cx="1127736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Availability of effective analysis tools lacks far behind the availability of d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The GENE EXPRESSION ANALYZER (GEA) aims to provide better data mining and analysis support for gene expression d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2128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db824b"/>
              </a:buClr>
              <a:buFont typeface="AvantGarde"/>
              <a:buAutoNum type="romanUcPeriod"/>
              <a:tabLst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db824b"/>
                </a:solidFill>
                <a:latin typeface="AvantGarde"/>
              </a:rPr>
              <a:t>Tissue Sele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22659840"/>
            <a:ext cx="9982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Compare and contrast brain normal/cancerous SAGE libra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Upon selection of tissue, GEA import data into the DB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02200" y="1860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db824b"/>
              </a:buClr>
              <a:buFont typeface="AvantGarde"/>
              <a:buAutoNum type="romanUcPeriod" startAt="3"/>
              <a:tabLst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db824b"/>
                </a:solidFill>
                <a:latin typeface="AvantGarde"/>
              </a:rPr>
              <a:t>Analyz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602200" y="19964520"/>
            <a:ext cx="9601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Discriminate tags that are express most differently between Fascicles through the use of GAP val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602200" y="674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db824b"/>
              </a:buClr>
              <a:buFont typeface="AvantGarde"/>
              <a:buAutoNum type="romanUcPeriod" startAt="2"/>
              <a:tabLst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db824b"/>
                </a:solidFill>
                <a:latin typeface="AvantGarde"/>
              </a:rPr>
              <a:t>Cluster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621280" y="8124840"/>
            <a:ext cx="960120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Cluster the SAGE libraries using partitioning algorithm FASCIC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We are only interested in “pure” clusters when comparing to other clus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60000" y="11125080"/>
            <a:ext cx="12007800" cy="6251760"/>
            <a:chOff x="17460000" y="11125080"/>
            <a:chExt cx="12007800" cy="6251760"/>
          </a:xfrm>
        </p:grpSpPr>
        <p:pic>
          <p:nvPicPr>
            <p:cNvPr id="53" name="display_fas" descr=""/>
            <p:cNvPicPr/>
            <p:nvPr/>
          </p:nvPicPr>
          <p:blipFill>
            <a:blip r:embed="rId1"/>
            <a:srcRect l="0" t="0" r="0" b="13366"/>
            <a:stretch/>
          </p:blipFill>
          <p:spPr>
            <a:xfrm>
              <a:off x="18088200" y="11125080"/>
              <a:ext cx="7667640" cy="487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"/>
            <p:cNvGrpSpPr/>
            <p:nvPr/>
          </p:nvGrpSpPr>
          <p:grpSpPr>
            <a:xfrm>
              <a:off x="17460000" y="14401800"/>
              <a:ext cx="3024360" cy="2975040"/>
              <a:chOff x="17460000" y="14401800"/>
              <a:chExt cx="3024360" cy="2975040"/>
            </a:xfrm>
          </p:grpSpPr>
          <p:sp>
            <p:nvSpPr>
              <p:cNvPr id="55" name=""/>
              <p:cNvSpPr/>
              <p:nvPr/>
            </p:nvSpPr>
            <p:spPr>
              <a:xfrm>
                <a:off x="18965880" y="14401800"/>
                <a:ext cx="0" cy="1981080"/>
              </a:xfrm>
              <a:prstGeom prst="line">
                <a:avLst/>
              </a:prstGeom>
              <a:ln w="38160">
                <a:solidFill>
                  <a:srgbClr val="f7946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460000" y="16551360"/>
                <a:ext cx="302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Fascicle genera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By the progra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5214400" y="15392520"/>
              <a:ext cx="4253400" cy="1511280"/>
              <a:chOff x="25214400" y="15392520"/>
              <a:chExt cx="4253400" cy="1511280"/>
            </a:xfrm>
          </p:grpSpPr>
          <p:sp>
            <p:nvSpPr>
              <p:cNvPr id="58" name=""/>
              <p:cNvSpPr/>
              <p:nvPr/>
            </p:nvSpPr>
            <p:spPr>
              <a:xfrm>
                <a:off x="25214400" y="15392520"/>
                <a:ext cx="1295280" cy="685800"/>
              </a:xfrm>
              <a:prstGeom prst="line">
                <a:avLst/>
              </a:prstGeom>
              <a:ln w="38160">
                <a:solidFill>
                  <a:srgbClr val="f7946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6426520" y="16078320"/>
                <a:ext cx="3041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Indicate the pur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of the Fascic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20999160" y="14401800"/>
              <a:ext cx="3169440" cy="2959200"/>
              <a:chOff x="20999160" y="14401800"/>
              <a:chExt cx="3169440" cy="2959200"/>
            </a:xfrm>
          </p:grpSpPr>
          <p:sp>
            <p:nvSpPr>
              <p:cNvPr id="61" name=""/>
              <p:cNvSpPr/>
              <p:nvPr/>
            </p:nvSpPr>
            <p:spPr>
              <a:xfrm>
                <a:off x="21328200" y="14401800"/>
                <a:ext cx="1216080" cy="1981080"/>
              </a:xfrm>
              <a:prstGeom prst="line">
                <a:avLst/>
              </a:prstGeom>
              <a:ln w="38160">
                <a:solidFill>
                  <a:srgbClr val="f7946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0999160" y="16535520"/>
                <a:ext cx="3169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Number of libr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within the Fascic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5255800" y="13960440"/>
              <a:ext cx="4203360" cy="825480"/>
              <a:chOff x="25255800" y="13960440"/>
              <a:chExt cx="4203360" cy="825480"/>
            </a:xfrm>
          </p:grpSpPr>
          <p:sp>
            <p:nvSpPr>
              <p:cNvPr id="64" name=""/>
              <p:cNvSpPr/>
              <p:nvPr/>
            </p:nvSpPr>
            <p:spPr>
              <a:xfrm>
                <a:off x="25255800" y="14376240"/>
                <a:ext cx="1218960" cy="0"/>
              </a:xfrm>
              <a:prstGeom prst="line">
                <a:avLst/>
              </a:prstGeom>
              <a:ln w="38160">
                <a:solidFill>
                  <a:srgbClr val="f7946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446680" y="13960440"/>
                <a:ext cx="301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Number of tag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within the Fascic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5214400" y="12496680"/>
              <a:ext cx="3502080" cy="838080"/>
              <a:chOff x="25214400" y="12496680"/>
              <a:chExt cx="3502080" cy="838080"/>
            </a:xfrm>
          </p:grpSpPr>
          <p:sp>
            <p:nvSpPr>
              <p:cNvPr id="67" name=""/>
              <p:cNvSpPr/>
              <p:nvPr/>
            </p:nvSpPr>
            <p:spPr>
              <a:xfrm flipV="1">
                <a:off x="25214400" y="12912480"/>
                <a:ext cx="1219320" cy="422280"/>
              </a:xfrm>
              <a:prstGeom prst="line">
                <a:avLst/>
              </a:prstGeom>
              <a:ln w="38160">
                <a:solidFill>
                  <a:srgbClr val="f7946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483040" y="12496680"/>
                <a:ext cx="2233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Properties of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79463"/>
                    </a:solidFill>
                    <a:latin typeface="AvantGarde"/>
                  </a:rPr>
                  <a:t>the Fascic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32080320" y="20954880"/>
            <a:ext cx="9601200" cy="5562720"/>
            <a:chOff x="32080320" y="20954880"/>
            <a:chExt cx="9601200" cy="5562720"/>
          </a:xfrm>
        </p:grpSpPr>
        <p:sp>
          <p:nvSpPr>
            <p:cNvPr id="70" name=""/>
            <p:cNvSpPr/>
            <p:nvPr/>
          </p:nvSpPr>
          <p:spPr>
            <a:xfrm>
              <a:off x="32080320" y="209548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6600" spc="-1" strike="noStrike">
                  <a:solidFill>
                    <a:srgbClr val="db824b"/>
                  </a:solidFill>
                  <a:latin typeface="AvantGarde"/>
                </a:rPr>
                <a:t>Ongoing Work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80320" y="22402800"/>
              <a:ext cx="96012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901"/>
                </a:spcBef>
                <a:buClr>
                  <a:srgbClr val="669900"/>
                </a:buClr>
                <a:buFont typeface="AvantGarde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AvantGarde"/>
                </a:rPr>
                <a:t>Recall that GEA only provides statistical analysis on the basis of tag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901"/>
                </a:spcBef>
                <a:buClr>
                  <a:srgbClr val="669900"/>
                </a:buClr>
                <a:buFont typeface="AvantGarde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AvantGarde"/>
                </a:rPr>
                <a:t>To provide more insight, we are linking biological databases of various types into GEA for integrated genomic analysi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2080320" y="7086600"/>
            <a:ext cx="9601200" cy="5867280"/>
            <a:chOff x="32080320" y="7086600"/>
            <a:chExt cx="9601200" cy="5867280"/>
          </a:xfrm>
        </p:grpSpPr>
        <p:sp>
          <p:nvSpPr>
            <p:cNvPr id="73" name=""/>
            <p:cNvSpPr/>
            <p:nvPr/>
          </p:nvSpPr>
          <p:spPr>
            <a:xfrm>
              <a:off x="32080320" y="70866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389480"/>
                  <a:tab algn="l" pos="8778960"/>
                </a:tabLst>
              </a:pPr>
              <a:r>
                <a:rPr b="1" lang="en-US" sz="6600" spc="-1" strike="noStrike">
                  <a:solidFill>
                    <a:srgbClr val="db824b"/>
                  </a:solidFill>
                  <a:latin typeface="AvantGarde"/>
                </a:rPr>
                <a:t>History and Lineage Feature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80320" y="8839080"/>
              <a:ext cx="96012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1880" indent="-461880">
                <a:lnSpc>
                  <a:spcPct val="100000"/>
                </a:lnSpc>
                <a:spcBef>
                  <a:spcPts val="901"/>
                </a:spcBef>
                <a:buClr>
                  <a:srgbClr val="669900"/>
                </a:buClr>
                <a:buFont typeface="AvantGarde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AvantGarde"/>
                </a:rPr>
                <a:t>Iterative clustering process generate a lot of result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1880" indent="-461880">
                <a:lnSpc>
                  <a:spcPct val="100000"/>
                </a:lnSpc>
                <a:spcBef>
                  <a:spcPts val="901"/>
                </a:spcBef>
                <a:buClr>
                  <a:srgbClr val="669900"/>
                </a:buClr>
                <a:buFont typeface="AvantGarde"/>
                <a:buChar char="•"/>
                <a:tabLst>
                  <a:tab algn="l" pos="4389480"/>
                  <a:tab algn="l" pos="8778960"/>
                </a:tabLst>
              </a:pPr>
              <a:r>
                <a:rPr b="1" lang="en-US" sz="3600" spc="-1" strike="noStrike">
                  <a:solidFill>
                    <a:srgbClr val="669900"/>
                  </a:solidFill>
                  <a:latin typeface="AvantGarde"/>
                </a:rPr>
                <a:t>GEA provides functionality to help user to better organize, manage and search previous results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tissue_select" descr=""/>
          <p:cNvPicPr/>
          <p:nvPr/>
        </p:nvPicPr>
        <p:blipFill>
          <a:blip r:embed="rId2"/>
          <a:stretch/>
        </p:blipFill>
        <p:spPr>
          <a:xfrm>
            <a:off x="3429000" y="25327080"/>
            <a:ext cx="6553080" cy="461484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17602200" y="26974800"/>
            <a:ext cx="10484640" cy="3886200"/>
            <a:chOff x="17602200" y="26974800"/>
            <a:chExt cx="10484640" cy="3886200"/>
          </a:xfrm>
        </p:grpSpPr>
        <p:pic>
          <p:nvPicPr>
            <p:cNvPr id="77" name="calculate_gap2" descr=""/>
            <p:cNvPicPr/>
            <p:nvPr/>
          </p:nvPicPr>
          <p:blipFill>
            <a:blip r:embed="rId3"/>
            <a:srcRect l="0" t="0" r="2143" b="26155"/>
            <a:stretch/>
          </p:blipFill>
          <p:spPr>
            <a:xfrm>
              <a:off x="17602200" y="26974800"/>
              <a:ext cx="104392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rot="19771800">
              <a:off x="24307200" y="29489040"/>
              <a:ext cx="1143000" cy="5335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3816600">
              <a:off x="26246880" y="27561240"/>
              <a:ext cx="846360" cy="2743200"/>
            </a:xfrm>
            <a:prstGeom prst="ellips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048120" y="129538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1" lang="en-US" sz="6600" spc="-1" strike="noStrike">
                <a:solidFill>
                  <a:srgbClr val="db824b"/>
                </a:solidFill>
                <a:latin typeface="AvantGarde"/>
              </a:rPr>
              <a:t>Contributions of GE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4325480"/>
            <a:ext cx="1127736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GEA treats clustering analysis as a multi-step pro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GEA provide facilities to help users to identify candidate genes for further clinical analy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AvantGarde"/>
              <a:buChar char="•"/>
              <a:tabLst>
                <a:tab algn="l" pos="4389480"/>
                <a:tab algn="l" pos="877896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vantGarde"/>
              </a:rPr>
              <a:t>GEA provides an integrated environment for mining and analysis on one hand, with search and retrieval on the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094320" y="22021920"/>
            <a:ext cx="9329040" cy="2111400"/>
            <a:chOff x="18094320" y="22021920"/>
            <a:chExt cx="9329040" cy="2111400"/>
          </a:xfrm>
        </p:grpSpPr>
        <p:sp>
          <p:nvSpPr>
            <p:cNvPr id="83" name=""/>
            <p:cNvSpPr/>
            <p:nvPr/>
          </p:nvSpPr>
          <p:spPr>
            <a:xfrm>
              <a:off x="18094320" y="22898520"/>
              <a:ext cx="7315200" cy="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647400" y="22517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304000" y="225172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123520" y="2251728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780120" y="225172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780120" y="22517280"/>
              <a:ext cx="1523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23520" y="2251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49480" y="23355720"/>
              <a:ext cx="10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vantGarde"/>
                </a:rPr>
                <a:t>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8437040" y="23793840"/>
                  <a:ext cx="64764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smal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24145560" y="23355720"/>
              <a:ext cx="10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vantGarde"/>
                </a:rPr>
                <a:t>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24348960" y="23841360"/>
                  <a:ext cx="63504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larg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19617120" y="233557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vantGarde"/>
                </a:rPr>
                <a:t>Std D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9986480" y="23780880"/>
                  <a:ext cx="6224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smal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22436280" y="233557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vantGarde"/>
                </a:rPr>
                <a:t>Std D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22818600" y="23780880"/>
                  <a:ext cx="6094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larg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25893720" y="22503240"/>
              <a:ext cx="15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00"/>
                  </a:solidFill>
                  <a:latin typeface="AvantGarde"/>
                </a:rPr>
                <a:t>Co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00"/>
                  </a:solidFill>
                  <a:latin typeface="AvantGarde"/>
                </a:rPr>
                <a:t>T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0297520" y="22021920"/>
              <a:ext cx="2819520" cy="495360"/>
              <a:chOff x="20297520" y="22021920"/>
              <a:chExt cx="2819520" cy="495360"/>
            </a:xfrm>
          </p:grpSpPr>
          <p:sp>
            <p:nvSpPr>
              <p:cNvPr id="100" name=""/>
              <p:cNvSpPr/>
              <p:nvPr/>
            </p:nvSpPr>
            <p:spPr>
              <a:xfrm>
                <a:off x="20297520" y="22517280"/>
                <a:ext cx="281952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896920" y="22021920"/>
                <a:ext cx="17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vantGarde"/>
                  </a:rPr>
                  <a:t>GAP Val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8170640" y="24028560"/>
            <a:ext cx="9503640" cy="2412360"/>
            <a:chOff x="18170640" y="24028560"/>
            <a:chExt cx="9503640" cy="2412360"/>
          </a:xfrm>
        </p:grpSpPr>
        <p:sp>
          <p:nvSpPr>
            <p:cNvPr id="103" name=""/>
            <p:cNvSpPr/>
            <p:nvPr/>
          </p:nvSpPr>
          <p:spPr>
            <a:xfrm>
              <a:off x="18170640" y="25171200"/>
              <a:ext cx="7238880" cy="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47400" y="24790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304000" y="24790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123520" y="24790320"/>
              <a:ext cx="0" cy="76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80120" y="24790320"/>
              <a:ext cx="0" cy="76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436280" y="256284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vantGarde"/>
                </a:rPr>
                <a:t>Std D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80120" y="24675840"/>
              <a:ext cx="43430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304000" y="24790320"/>
              <a:ext cx="434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49120" y="25628400"/>
              <a:ext cx="10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vantGarde"/>
                </a:rPr>
                <a:t>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18437040" y="26149320"/>
                  <a:ext cx="647280" cy="29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smal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"/>
            <p:cNvSpPr/>
            <p:nvPr/>
          </p:nvSpPr>
          <p:spPr>
            <a:xfrm>
              <a:off x="24145200" y="25628400"/>
              <a:ext cx="10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vantGarde"/>
                </a:rPr>
                <a:t>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4348960" y="26146080"/>
                  <a:ext cx="634680" cy="29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larg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22806000" y="26085600"/>
                  <a:ext cx="6217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smal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19617120" y="256284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vantGarde"/>
                </a:rPr>
                <a:t>Std D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19999080" y="26085600"/>
                  <a:ext cx="60948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larg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"/>
            <p:cNvSpPr/>
            <p:nvPr/>
          </p:nvSpPr>
          <p:spPr>
            <a:xfrm>
              <a:off x="25608240" y="24775920"/>
              <a:ext cx="206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00"/>
                  </a:solidFill>
                  <a:latin typeface="AvantGarde"/>
                </a:rPr>
                <a:t>Overla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00"/>
                  </a:solidFill>
                  <a:latin typeface="AvantGarde"/>
                </a:rPr>
                <a:t>T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0297520" y="24028560"/>
              <a:ext cx="2819160" cy="466560"/>
              <a:chOff x="20297520" y="24028560"/>
              <a:chExt cx="2819160" cy="466560"/>
            </a:xfrm>
          </p:grpSpPr>
          <p:sp>
            <p:nvSpPr>
              <p:cNvPr id="120" name=""/>
              <p:cNvSpPr/>
              <p:nvPr/>
            </p:nvSpPr>
            <p:spPr>
              <a:xfrm>
                <a:off x="20297520" y="24495120"/>
                <a:ext cx="28191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055680" y="24028560"/>
                <a:ext cx="138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00"/>
                    </a:solidFill>
                    <a:latin typeface="AvantGarde"/>
                  </a:rPr>
                  <a:t>Overla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048120" y="20193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89480"/>
                <a:tab algn="l" pos="8778960"/>
              </a:tabLst>
            </a:pPr>
            <a:r>
              <a:rPr b="1" lang="en-US" sz="6600" spc="-1" strike="noStrike">
                <a:solidFill>
                  <a:srgbClr val="db824b"/>
                </a:solidFill>
                <a:latin typeface="AvantGarde"/>
              </a:rPr>
              <a:t> </a:t>
            </a:r>
            <a:r>
              <a:rPr b="1" lang="en-US" sz="6600" spc="-1" strike="noStrike">
                <a:solidFill>
                  <a:srgbClr val="db824b"/>
                </a:solidFill>
                <a:latin typeface="AvantGarde"/>
              </a:rPr>
              <a:t>A Simple Case Stu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1470480"/>
            <a:ext cx="3924288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48440" y="31638960"/>
            <a:ext cx="142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vantGarde"/>
              </a:rPr>
              <a:t>Person Handling Correspondence.  Postal:  Department of Computer Science, 2366 Main Ma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vantGarde"/>
              </a:rPr>
              <a:t>Vancouver, BC V6T 1Z4, Canada.  Email:  </a:t>
            </a:r>
            <a:r>
              <a:rPr b="1" lang="en-US" sz="2400" spc="-1" strike="noStrike" u="sng">
                <a:solidFill>
                  <a:srgbClr val="996633"/>
                </a:solidFill>
                <a:uFillTx/>
                <a:latin typeface="AvantGarde"/>
              </a:rPr>
              <a:t>rng@cs.ubc.ca</a:t>
            </a:r>
            <a:r>
              <a:rPr b="1" lang="en-US" sz="2400" spc="-1" strike="noStrike">
                <a:solidFill>
                  <a:srgbClr val="996633"/>
                </a:solidFill>
                <a:latin typeface="AvantGarde"/>
              </a:rPr>
              <a:t>  Phone:  604-822-23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history" descr=""/>
          <p:cNvPicPr/>
          <p:nvPr/>
        </p:nvPicPr>
        <p:blipFill>
          <a:blip r:embed="rId4"/>
          <a:stretch/>
        </p:blipFill>
        <p:spPr>
          <a:xfrm>
            <a:off x="32099400" y="12249000"/>
            <a:ext cx="8448480" cy="6724800"/>
          </a:xfrm>
          <a:prstGeom prst="rect">
            <a:avLst/>
          </a:prstGeom>
          <a:ln w="0">
            <a:noFill/>
          </a:ln>
        </p:spPr>
      </p:pic>
      <p:pic>
        <p:nvPicPr>
          <p:cNvPr id="126" name="linkage" descr=""/>
          <p:cNvPicPr/>
          <p:nvPr/>
        </p:nvPicPr>
        <p:blipFill>
          <a:blip r:embed="rId5"/>
          <a:srcRect l="0" t="0" r="49413" b="0"/>
          <a:stretch/>
        </p:blipFill>
        <p:spPr>
          <a:xfrm>
            <a:off x="32080320" y="26650800"/>
            <a:ext cx="8534160" cy="3692520"/>
          </a:xfrm>
          <a:prstGeom prst="rect">
            <a:avLst/>
          </a:prstGeom>
          <a:ln w="0">
            <a:noFill/>
          </a:ln>
        </p:spPr>
      </p:pic>
      <p:pic>
        <p:nvPicPr>
          <p:cNvPr id="127" name="logo_GEA" descr=""/>
          <p:cNvPicPr/>
          <p:nvPr/>
        </p:nvPicPr>
        <p:blipFill>
          <a:blip r:embed="rId6"/>
          <a:stretch/>
        </p:blipFill>
        <p:spPr>
          <a:xfrm>
            <a:off x="3048120" y="2133720"/>
            <a:ext cx="1855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7:50:08Z</dcterms:created>
  <dc:creator>default user</dc:creator>
  <dc:description/>
  <dc:language>en-US</dc:language>
  <cp:lastModifiedBy>mack</cp:lastModifiedBy>
  <dcterms:modified xsi:type="dcterms:W3CDTF">2002-08-19T19:45:09Z</dcterms:modified>
  <cp:revision>51</cp:revision>
  <dc:subject/>
  <dc:title>PowerPoint Presentation</dc:title>
</cp:coreProperties>
</file>