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CD8-B365-4CDC-93B5-6F9F51BC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AEB-E5FB-4591-B518-BF591CE4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212-2C10-48AE-B18E-DD8A7928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92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90588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519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206-A582-4A2F-A114-E246E5CF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BA8-B77E-4709-B432-05C958FF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664-9D33-4F54-A84C-4678F24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243-92C1-4321-83EB-A6AACB7F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F7D-FA68-4026-9344-C33300DF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92560" y="2925720"/>
            <a:ext cx="3730608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8EB-656E-4DA3-8273-41171442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D2C-89D3-4AA2-BA75-5E19809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BFE-69BE-4775-B610-A14AE98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051-7BBB-46CA-B2CE-6140D6E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33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99000"/>
          </a:bodyPr>
          <a:p>
            <a:pPr marL="1629720" indent="-162972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9440" indent="-13575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3132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0320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4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5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6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9256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92680"/>
            <a:ext cx="1390032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7C5BC504-46AB-4887-8175-C8232FC23004}" type="slidenum"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33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451920" y="18364320"/>
            <a:ext cx="9372600" cy="5333400"/>
            <a:chOff x="33451920" y="18364320"/>
            <a:chExt cx="9372600" cy="5333400"/>
          </a:xfrm>
        </p:grpSpPr>
        <p:sp>
          <p:nvSpPr>
            <p:cNvPr id="42" name=""/>
            <p:cNvSpPr/>
            <p:nvPr/>
          </p:nvSpPr>
          <p:spPr>
            <a:xfrm>
              <a:off x="33451920" y="18364320"/>
              <a:ext cx="899136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6000" spc="-1" strike="noStrike">
                  <a:solidFill>
                    <a:srgbClr val="ff9933"/>
                  </a:solidFill>
                  <a:latin typeface="Verdana"/>
                </a:rPr>
                <a:t>VIII.  Conclusio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451920" y="19583280"/>
              <a:ext cx="9372600" cy="41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Clustering structure is more pronounce through the use of the 4 pre-processing step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Some cancers (e.g. brain &amp; ovarian) are closer to each other on gene expression leve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Not all cancers have distinct “signature” on the gene expression leve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This technique is very robust and reproducib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514600" y="2057400"/>
            <a:ext cx="3863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7200" spc="-1" strike="noStrike">
                <a:solidFill>
                  <a:srgbClr val="89b3eb"/>
                </a:solidFill>
                <a:latin typeface="Verdana"/>
              </a:rPr>
              <a:t>Hierarchical Cluster Analysis and Classification of SAGE </a:t>
            </a:r>
            <a:r>
              <a:rPr b="1" lang="en-US" sz="7200" spc="-1" strike="noStrike">
                <a:solidFill>
                  <a:srgbClr val="89b3eb"/>
                </a:solidFill>
                <a:latin typeface="Verdana"/>
              </a:rPr>
              <a:t>D</a:t>
            </a:r>
            <a:r>
              <a:rPr b="1" lang="en-CA" sz="7200" spc="-1" strike="noStrike">
                <a:solidFill>
                  <a:srgbClr val="89b3eb"/>
                </a:solidFill>
                <a:latin typeface="Verdana"/>
              </a:rPr>
              <a:t>at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3581280"/>
            <a:ext cx="2987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af5"/>
                </a:solidFill>
                <a:latin typeface="Verdana"/>
              </a:rPr>
              <a:t>Dr. Raymond Ng</a:t>
            </a:r>
            <a:r>
              <a:rPr b="1" lang="en-US" sz="3600" spc="-1" strike="noStrike" baseline="30000">
                <a:solidFill>
                  <a:srgbClr val="c5daf5"/>
                </a:solidFill>
                <a:latin typeface="Verdana"/>
              </a:rPr>
              <a:t>*</a:t>
            </a:r>
            <a:r>
              <a:rPr b="1" lang="en-US" sz="3600" spc="-1" strike="noStrike">
                <a:solidFill>
                  <a:srgbClr val="c5daf5"/>
                </a:solidFill>
                <a:latin typeface="Verdana"/>
              </a:rPr>
              <a:t>, Monica C. Sleumer, Mack Yuen - Department of Computer Science, University of British Columb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af5"/>
                </a:solidFill>
                <a:latin typeface="Verdana"/>
              </a:rPr>
              <a:t>Dr. Jörg Sander – Department of Computing Science, University of Alb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af5"/>
                </a:solidFill>
                <a:latin typeface="Verdana"/>
              </a:rPr>
              <a:t>Dr. Steven Jones – BC Genome Science Cent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1394520"/>
            <a:ext cx="41910120" cy="0"/>
          </a:xfrm>
          <a:prstGeom prst="line">
            <a:avLst/>
          </a:prstGeom>
          <a:ln w="38160">
            <a:solidFill>
              <a:srgbClr val="c5da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371600" y="6629400"/>
            <a:ext cx="9753480" cy="6934320"/>
            <a:chOff x="1371600" y="6629400"/>
            <a:chExt cx="9753480" cy="6934320"/>
          </a:xfrm>
        </p:grpSpPr>
        <p:sp>
          <p:nvSpPr>
            <p:cNvPr id="48" name=""/>
            <p:cNvSpPr/>
            <p:nvPr/>
          </p:nvSpPr>
          <p:spPr>
            <a:xfrm>
              <a:off x="1371600" y="6629400"/>
              <a:ext cx="7772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6000" spc="-1" strike="noStrike">
                  <a:solidFill>
                    <a:srgbClr val="ff9933"/>
                  </a:solidFill>
                  <a:latin typeface="Verdana"/>
                </a:rPr>
                <a:t>I.  Fact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7924680"/>
              <a:ext cx="975348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9040" indent="-419040">
                <a:lnSpc>
                  <a:spcPct val="9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In Canada, an estimate of 134,100 new cases of cancer was developed in 2001. Approximately, 50% of the patient died from the diseas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371600" y="11887200"/>
            <a:ext cx="9677520" cy="3504960"/>
            <a:chOff x="1371600" y="11887200"/>
            <a:chExt cx="9677520" cy="3504960"/>
          </a:xfrm>
        </p:grpSpPr>
        <p:sp>
          <p:nvSpPr>
            <p:cNvPr id="51" name=""/>
            <p:cNvSpPr/>
            <p:nvPr/>
          </p:nvSpPr>
          <p:spPr>
            <a:xfrm>
              <a:off x="1371600" y="118872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6000" spc="-1" strike="noStrike">
                  <a:solidFill>
                    <a:srgbClr val="ff9933"/>
                  </a:solidFill>
                  <a:latin typeface="Verdana"/>
                </a:rPr>
                <a:t>II.  Hypothesi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1600" y="13258800"/>
              <a:ext cx="96775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Cancer that are morphologically similar may behave very differently at the gene expression level and this difference can be detecte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371600" y="17221320"/>
            <a:ext cx="9524880" cy="5486400"/>
            <a:chOff x="1371600" y="17221320"/>
            <a:chExt cx="9524880" cy="5486400"/>
          </a:xfrm>
        </p:grpSpPr>
        <p:sp>
          <p:nvSpPr>
            <p:cNvPr id="54" name=""/>
            <p:cNvSpPr/>
            <p:nvPr/>
          </p:nvSpPr>
          <p:spPr>
            <a:xfrm>
              <a:off x="1371600" y="1722132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6000" spc="-1" strike="noStrike">
                  <a:solidFill>
                    <a:srgbClr val="ff9933"/>
                  </a:solidFill>
                  <a:latin typeface="Verdana"/>
                </a:rPr>
                <a:t>III.  Objective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1600" y="18592920"/>
              <a:ext cx="95248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Use density-based hierarchical clustering algorithm OPTICS to analyze gene expression profil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Relate cancer categories to patient response to treatm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Eventually predict the most effective treatment for pati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371600" y="25298280"/>
            <a:ext cx="7772400" cy="5105520"/>
            <a:chOff x="1371600" y="25298280"/>
            <a:chExt cx="7772400" cy="5105520"/>
          </a:xfrm>
        </p:grpSpPr>
        <p:sp>
          <p:nvSpPr>
            <p:cNvPr id="57" name=""/>
            <p:cNvSpPr/>
            <p:nvPr/>
          </p:nvSpPr>
          <p:spPr>
            <a:xfrm>
              <a:off x="1371600" y="25298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6000" spc="-1" strike="noStrike">
                  <a:solidFill>
                    <a:srgbClr val="ff9933"/>
                  </a:solidFill>
                  <a:latin typeface="Verdana"/>
                </a:rPr>
                <a:t>IV.  SAGE in D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1600" y="2628900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SAGE represented in RDB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" name=""/>
          <p:cNvGraphicFramePr/>
          <p:nvPr/>
        </p:nvGraphicFramePr>
        <p:xfrm>
          <a:off x="1523880" y="27203400"/>
          <a:ext cx="8001000" cy="2928960"/>
        </p:xfrm>
        <a:graphic>
          <a:graphicData uri="http://schemas.openxmlformats.org/drawingml/2006/table">
            <a:tbl>
              <a:tblPr/>
              <a:tblGrid>
                <a:gridCol w="1265400"/>
                <a:gridCol w="1263600"/>
                <a:gridCol w="1265400"/>
                <a:gridCol w="1261800"/>
                <a:gridCol w="1263600"/>
                <a:gridCol w="168120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g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T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Freq</a:t>
                      </a:r>
                      <a:r>
                        <a:rPr b="1" i="1" lang="en-US" sz="2800" spc="-1" strike="noStrike" baseline="-25000">
                          <a:solidFill>
                            <a:srgbClr val="99cc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Freq</a:t>
                      </a:r>
                      <a:r>
                        <a:rPr b="1" i="1" lang="en-US" sz="2800" spc="-1" strike="noStrike" baseline="-25000">
                          <a:solidFill>
                            <a:srgbClr val="99cc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Freq</a:t>
                      </a:r>
                      <a:r>
                        <a:rPr b="1" i="1" lang="en-US" sz="2800" spc="-1" strike="noStrike" baseline="-25000">
                          <a:solidFill>
                            <a:srgbClr val="99ccff"/>
                          </a:solidFill>
                          <a:latin typeface="Arial"/>
                        </a:rPr>
                        <a:t>1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Freq</a:t>
                      </a:r>
                      <a:r>
                        <a:rPr b="1" i="1" lang="en-US" sz="2800" spc="-1" strike="noStrike" baseline="-25000">
                          <a:solidFill>
                            <a:srgbClr val="99cc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Freq</a:t>
                      </a:r>
                      <a:r>
                        <a:rPr b="1" i="1" lang="en-US" sz="2800" spc="-1" strike="noStrike" baseline="-25000">
                          <a:solidFill>
                            <a:srgbClr val="99cc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Freq</a:t>
                      </a:r>
                      <a:r>
                        <a:rPr b="1" i="1" lang="en-US" sz="2800" spc="-1" strike="noStrike" baseline="-25000">
                          <a:solidFill>
                            <a:srgbClr val="99ccff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Freq</a:t>
                      </a:r>
                      <a:r>
                        <a:rPr b="1" i="1" lang="en-US" sz="2800" spc="-1" strike="noStrike" baseline="-25000">
                          <a:solidFill>
                            <a:srgbClr val="99cc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Freq</a:t>
                      </a:r>
                      <a:r>
                        <a:rPr b="1" i="1" lang="en-US" sz="2800" spc="-1" strike="noStrike" baseline="-25000">
                          <a:solidFill>
                            <a:srgbClr val="99cc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Freq</a:t>
                      </a:r>
                      <a:r>
                        <a:rPr b="1" i="1" lang="en-US" sz="2800" spc="-1" strike="noStrike" baseline="-25000">
                          <a:solidFill>
                            <a:srgbClr val="99ccff"/>
                          </a:solidFill>
                          <a:latin typeface="Arial"/>
                        </a:rPr>
                        <a:t>3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912080" y="28022400"/>
                <a:ext cx="1498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900920" y="2854944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886880" y="29073600"/>
                <a:ext cx="1549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" name=""/>
          <p:cNvGrpSpPr/>
          <p:nvPr/>
        </p:nvGrpSpPr>
        <p:grpSpPr>
          <a:xfrm>
            <a:off x="12496680" y="8534520"/>
            <a:ext cx="9144000" cy="5410080"/>
            <a:chOff x="12496680" y="8534520"/>
            <a:chExt cx="9144000" cy="5410080"/>
          </a:xfrm>
        </p:grpSpPr>
        <p:sp>
          <p:nvSpPr>
            <p:cNvPr id="64" name=""/>
            <p:cNvSpPr/>
            <p:nvPr/>
          </p:nvSpPr>
          <p:spPr>
            <a:xfrm>
              <a:off x="12496680" y="853452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4800" spc="-1" strike="noStrike">
                  <a:solidFill>
                    <a:srgbClr val="ff9933"/>
                  </a:solidFill>
                  <a:latin typeface="Verdana"/>
                </a:rPr>
                <a:t>1. Error Remova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496680" y="9829800"/>
              <a:ext cx="91440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Removing erroneous tags possibly due to sequencing erro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Result:  Reduced dimensionality and “noise”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" name=""/>
          <p:cNvGraphicFramePr/>
          <p:nvPr/>
        </p:nvGraphicFramePr>
        <p:xfrm>
          <a:off x="13106520" y="12192120"/>
          <a:ext cx="8076960" cy="3047760"/>
        </p:xfrm>
        <a:graphic>
          <a:graphicData uri="http://schemas.openxmlformats.org/drawingml/2006/table">
            <a:tbl>
              <a:tblPr/>
              <a:tblGrid>
                <a:gridCol w="1633320"/>
                <a:gridCol w="1544760"/>
                <a:gridCol w="1633680"/>
                <a:gridCol w="1631880"/>
                <a:gridCol w="1633320"/>
              </a:tblGrid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flipV="1">
            <a:off x="15506640" y="15392520"/>
            <a:ext cx="0" cy="3808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8120" y="15786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Remo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2496680" y="17754480"/>
            <a:ext cx="9296280" cy="2819520"/>
            <a:chOff x="12496680" y="17754480"/>
            <a:chExt cx="9296280" cy="2819520"/>
          </a:xfrm>
        </p:grpSpPr>
        <p:sp>
          <p:nvSpPr>
            <p:cNvPr id="70" name=""/>
            <p:cNvSpPr/>
            <p:nvPr/>
          </p:nvSpPr>
          <p:spPr>
            <a:xfrm>
              <a:off x="12496680" y="17754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4800" spc="-1" strike="noStrike">
                  <a:solidFill>
                    <a:srgbClr val="ff9933"/>
                  </a:solidFill>
                  <a:latin typeface="Verdana"/>
                </a:rPr>
                <a:t>2.  Normalizat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496680" y="18897480"/>
              <a:ext cx="9296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Normalizing the tags by scaling up the total number of tag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Result:  Render tags comparab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2496680" y="21717000"/>
            <a:ext cx="10058400" cy="3325680"/>
            <a:chOff x="12496680" y="21717000"/>
            <a:chExt cx="10058400" cy="3325680"/>
          </a:xfrm>
        </p:grpSpPr>
        <p:sp>
          <p:nvSpPr>
            <p:cNvPr id="73" name=""/>
            <p:cNvSpPr/>
            <p:nvPr/>
          </p:nvSpPr>
          <p:spPr>
            <a:xfrm>
              <a:off x="12496680" y="21717000"/>
              <a:ext cx="9982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4800" spc="-1" strike="noStrike">
                  <a:solidFill>
                    <a:srgbClr val="ff9933"/>
                  </a:solidFill>
                  <a:latin typeface="Verdana"/>
                </a:rPr>
                <a:t>3.  Missing Tag Imputat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496680" y="22783680"/>
              <a:ext cx="1005840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Imputation of libraries with very low total tag count (i.e. Lib 2) using lowest non-zero count from similar library (i.e. Lab 1 and 3 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Result:  Did not alter clustering structure but paved path for subspace selecti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622520" y="31623120"/>
            <a:ext cx="200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daf5"/>
                </a:solidFill>
                <a:latin typeface="Verdana"/>
              </a:rPr>
              <a:t>Person handling correspondence.  Postal: Department of Computer Science, 2366 Mail Mall, Vancouver, BC, Canada V6T 1Z4.  Email: </a:t>
            </a:r>
            <a:r>
              <a:rPr b="1" lang="en-US" sz="3200" spc="-1" strike="noStrike" u="sng">
                <a:solidFill>
                  <a:srgbClr val="c5daf5"/>
                </a:solidFill>
                <a:uFillTx/>
                <a:latin typeface="Verdana"/>
              </a:rPr>
              <a:t>rng@cs.ubc.ca</a:t>
            </a:r>
            <a:r>
              <a:rPr b="1" lang="en-US" sz="3200" spc="-1" strike="noStrike">
                <a:solidFill>
                  <a:srgbClr val="c5daf5"/>
                </a:solidFill>
                <a:latin typeface="Verdana"/>
              </a:rPr>
              <a:t>  Phone: 604-822-23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030200" y="26457120"/>
          <a:ext cx="8534520" cy="2411640"/>
        </p:xfrm>
        <a:graphic>
          <a:graphicData uri="http://schemas.openxmlformats.org/drawingml/2006/table">
            <a:tbl>
              <a:tblPr/>
              <a:tblGrid>
                <a:gridCol w="1349280"/>
                <a:gridCol w="1347840"/>
                <a:gridCol w="1349280"/>
                <a:gridCol w="1346400"/>
                <a:gridCol w="1349280"/>
                <a:gridCol w="1792440"/>
              </a:tblGrid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 T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3030200" y="29428920"/>
          <a:ext cx="8534520" cy="517680"/>
        </p:xfrm>
        <a:graphic>
          <a:graphicData uri="http://schemas.openxmlformats.org/drawingml/2006/table">
            <a:tbl>
              <a:tblPr/>
              <a:tblGrid>
                <a:gridCol w="1349280"/>
                <a:gridCol w="1347840"/>
                <a:gridCol w="1349280"/>
                <a:gridCol w="1346400"/>
                <a:gridCol w="1349280"/>
                <a:gridCol w="1792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3393520" y="6781680"/>
            <a:ext cx="8991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Verdana"/>
              </a:rPr>
              <a:t>4.  Subspace Se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93520" y="8153280"/>
            <a:ext cx="93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Verdana"/>
              <a:buChar char="•"/>
              <a:tabLst>
                <a:tab algn="l" pos="4389480"/>
                <a:tab algn="l" pos="877896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ubspace selection using non-parametric Wilcoxon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Verdana"/>
              <a:buChar char="•"/>
              <a:tabLst>
                <a:tab algn="l" pos="4389480"/>
                <a:tab algn="l" pos="877896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eject tags that would not help us to distinguish normal/cancer cells – tags that have similar expression in normal/cancer libr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Verdana"/>
              <a:buChar char="•"/>
              <a:tabLst>
                <a:tab algn="l" pos="4389480"/>
                <a:tab algn="l" pos="877896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Result:  Significantly reduce dimensionality and produce pronounce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3926680" y="13192200"/>
          <a:ext cx="5486400" cy="3622680"/>
        </p:xfrm>
        <a:graphic>
          <a:graphicData uri="http://schemas.openxmlformats.org/drawingml/2006/table">
            <a:tbl>
              <a:tblPr/>
              <a:tblGrid>
                <a:gridCol w="2078280"/>
                <a:gridCol w="1662120"/>
                <a:gridCol w="174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ncer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rmal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ncer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rmal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rmal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ncer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3926680" y="17322840"/>
          <a:ext cx="6858000" cy="517320"/>
        </p:xfrm>
        <a:graphic>
          <a:graphicData uri="http://schemas.openxmlformats.org/drawingml/2006/table">
            <a:tbl>
              <a:tblPr/>
              <a:tblGrid>
                <a:gridCol w="1198800"/>
                <a:gridCol w="946080"/>
                <a:gridCol w="941400"/>
                <a:gridCol w="944640"/>
                <a:gridCol w="941400"/>
                <a:gridCol w="944280"/>
                <a:gridCol w="941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3926680" y="18770760"/>
          <a:ext cx="6858000" cy="517320"/>
        </p:xfrm>
        <a:graphic>
          <a:graphicData uri="http://schemas.openxmlformats.org/drawingml/2006/table">
            <a:tbl>
              <a:tblPr/>
              <a:tblGrid>
                <a:gridCol w="1201680"/>
                <a:gridCol w="943200"/>
                <a:gridCol w="941400"/>
                <a:gridCol w="944640"/>
                <a:gridCol w="941400"/>
                <a:gridCol w="944280"/>
                <a:gridCol w="941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Verdana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dddddd"/>
                      </a:solidFill>
                    </a:lnR>
                    <a:lnT w="18720">
                      <a:solidFill>
                        <a:srgbClr val="dddddd"/>
                      </a:solidFill>
                    </a:lnT>
                    <a:lnB w="18720">
                      <a:solidFill>
                        <a:srgbClr val="dddddd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8964440" y="15316200"/>
            <a:ext cx="4389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162680" y="6594480"/>
            <a:ext cx="77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ff9933"/>
              </a:buClr>
              <a:buFont typeface="Verdan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Verdana"/>
              </a:rPr>
              <a:t>  </a:t>
            </a:r>
            <a:r>
              <a:rPr b="1" lang="en-US" sz="6000" spc="-1" strike="noStrike">
                <a:solidFill>
                  <a:srgbClr val="ff9933"/>
                </a:solidFill>
                <a:latin typeface="Verdana"/>
              </a:rPr>
              <a:t>4 Pre-Processing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Verdana"/>
              </a:rPr>
              <a:t>    </a:t>
            </a:r>
            <a:r>
              <a:rPr b="1" lang="en-US" sz="6000" spc="-1" strike="noStrike">
                <a:solidFill>
                  <a:srgbClr val="ff9933"/>
                </a:solidFill>
                <a:latin typeface="Verdana"/>
              </a:rPr>
              <a:t>Step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460200" y="17916480"/>
            <a:ext cx="380880" cy="457200"/>
            <a:chOff x="24460200" y="17916480"/>
            <a:chExt cx="380880" cy="457200"/>
          </a:xfrm>
        </p:grpSpPr>
        <p:sp>
          <p:nvSpPr>
            <p:cNvPr id="86" name=""/>
            <p:cNvSpPr/>
            <p:nvPr/>
          </p:nvSpPr>
          <p:spPr>
            <a:xfrm>
              <a:off x="24460200" y="17916480"/>
              <a:ext cx="0" cy="4572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60200" y="18373680"/>
              <a:ext cx="3808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5216920" y="1813572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ag 1 rej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460200" y="19364400"/>
            <a:ext cx="380880" cy="457200"/>
            <a:chOff x="24460200" y="19364400"/>
            <a:chExt cx="380880" cy="457200"/>
          </a:xfrm>
        </p:grpSpPr>
        <p:sp>
          <p:nvSpPr>
            <p:cNvPr id="90" name=""/>
            <p:cNvSpPr/>
            <p:nvPr/>
          </p:nvSpPr>
          <p:spPr>
            <a:xfrm>
              <a:off x="24460200" y="19364400"/>
              <a:ext cx="0" cy="4572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460200" y="19821600"/>
              <a:ext cx="3808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214400" y="195832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ag 2 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393520" y="20497680"/>
            <a:ext cx="9372600" cy="2286000"/>
            <a:chOff x="23393520" y="20497680"/>
            <a:chExt cx="9372600" cy="2286000"/>
          </a:xfrm>
        </p:grpSpPr>
        <p:sp>
          <p:nvSpPr>
            <p:cNvPr id="94" name=""/>
            <p:cNvSpPr/>
            <p:nvPr/>
          </p:nvSpPr>
          <p:spPr>
            <a:xfrm>
              <a:off x="23778360" y="20497680"/>
              <a:ext cx="4365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9933"/>
                  </a:solidFill>
                  <a:latin typeface="Verdana"/>
                </a:rPr>
                <a:t>VI.  Result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393520" y="21488400"/>
              <a:ext cx="93726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Valley represent cluster; the deeper the valley, the denser the clust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8778680" y="15316200"/>
            <a:ext cx="4389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451920" y="6477120"/>
            <a:ext cx="8991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Verdana"/>
              </a:rPr>
              <a:t>VII.  Classif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451920" y="7848720"/>
            <a:ext cx="93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Verdana"/>
              <a:buChar char="•"/>
              <a:tabLst>
                <a:tab algn="l" pos="4389480"/>
                <a:tab algn="l" pos="877896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Classify libraries using nearest neighb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Verdana"/>
              <a:buChar char="•"/>
              <a:tabLst>
                <a:tab algn="l" pos="4389480"/>
                <a:tab algn="l" pos="877896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Brain and Breast have a relative “strong” signature and an increasing accuracy with more tr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Verdana"/>
              <a:buChar char="•"/>
              <a:tabLst>
                <a:tab algn="l" pos="4389480"/>
                <a:tab algn="l" pos="877896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Ovary and Prostate have a relatively weaker “signature”.  Increasing number of trainers 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decreasing accura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11800" y="15130440"/>
            <a:ext cx="4389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579280" y="22936320"/>
            <a:ext cx="8990640" cy="4952160"/>
            <a:chOff x="23579280" y="22936320"/>
            <a:chExt cx="8990640" cy="4952160"/>
          </a:xfrm>
        </p:grpSpPr>
        <p:sp>
          <p:nvSpPr>
            <p:cNvPr id="101" name=""/>
            <p:cNvSpPr/>
            <p:nvPr/>
          </p:nvSpPr>
          <p:spPr>
            <a:xfrm>
              <a:off x="23790600" y="22936320"/>
              <a:ext cx="8567640" cy="475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23579280" y="24203880"/>
            <a:ext cx="8700120" cy="368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79280" y="24203880"/>
                      <a:ext cx="8700120" cy="368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4" name=""/>
            <p:cNvGrpSpPr/>
            <p:nvPr/>
          </p:nvGrpSpPr>
          <p:grpSpPr>
            <a:xfrm>
              <a:off x="25112880" y="22936320"/>
              <a:ext cx="7457040" cy="2506320"/>
              <a:chOff x="25112880" y="22936320"/>
              <a:chExt cx="7457040" cy="2506320"/>
            </a:xfrm>
          </p:grpSpPr>
          <p:sp>
            <p:nvSpPr>
              <p:cNvPr id="105" name=""/>
              <p:cNvSpPr/>
              <p:nvPr/>
            </p:nvSpPr>
            <p:spPr>
              <a:xfrm>
                <a:off x="25542000" y="23854680"/>
                <a:ext cx="1938240" cy="375120"/>
              </a:xfrm>
              <a:noFill/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varian Cancer Cell Lin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400000">
                <a:off x="25264800" y="25129440"/>
                <a:ext cx="124920" cy="429120"/>
              </a:xfrm>
              <a:custGeom>
                <a:avLst/>
                <a:gdLst>
                  <a:gd name="textAreaLeft" fmla="*/ 79920 w 124920"/>
                  <a:gd name="textAreaRight" fmla="*/ 125280 w 124920"/>
                  <a:gd name="textAreaTop" fmla="*/ 11160 h 429120"/>
                  <a:gd name="textAreaBottom" fmla="*/ 417960 h 42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48"/>
                    </a:lnTo>
                    <a:cubicBezTo>
                      <a:pt x="10800" y="9848"/>
                      <a:pt x="5400" y="10748"/>
                      <a:pt x="0" y="10748"/>
                    </a:cubicBezTo>
                    <a:cubicBezTo>
                      <a:pt x="5400" y="10748"/>
                      <a:pt x="10800" y="11648"/>
                      <a:pt x="10800" y="12548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25693200" y="25130160"/>
                <a:ext cx="124920" cy="428040"/>
              </a:xfrm>
              <a:custGeom>
                <a:avLst/>
                <a:gdLst>
                  <a:gd name="textAreaLeft" fmla="*/ 79920 w 124920"/>
                  <a:gd name="textAreaRight" fmla="*/ 125280 w 124920"/>
                  <a:gd name="textAreaTop" fmla="*/ 11160 h 428040"/>
                  <a:gd name="textAreaBottom" fmla="*/ 416880 h 42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48"/>
                    </a:lnTo>
                    <a:cubicBezTo>
                      <a:pt x="10800" y="9848"/>
                      <a:pt x="5400" y="10748"/>
                      <a:pt x="0" y="10748"/>
                    </a:cubicBezTo>
                    <a:cubicBezTo>
                      <a:pt x="5400" y="10748"/>
                      <a:pt x="10800" y="11648"/>
                      <a:pt x="10800" y="12548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185680" y="24216840"/>
                <a:ext cx="1938240" cy="374040"/>
              </a:xfrm>
              <a:noFill/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rain Cancer Cell Lin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016920" y="24489000"/>
                <a:ext cx="1930320" cy="375120"/>
              </a:xfrm>
              <a:noFill/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rain Cancer Bulk Tissu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26852760" y="24960600"/>
                <a:ext cx="124920" cy="749880"/>
              </a:xfrm>
              <a:custGeom>
                <a:avLst/>
                <a:gdLst>
                  <a:gd name="textAreaLeft" fmla="*/ 79920 w 124920"/>
                  <a:gd name="textAreaRight" fmla="*/ 125280 w 124920"/>
                  <a:gd name="textAreaTop" fmla="*/ 19440 h 749880"/>
                  <a:gd name="textAreaBottom" fmla="*/ 730440 h 74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2769"/>
                    </a:lnTo>
                    <a:cubicBezTo>
                      <a:pt x="10800" y="13669"/>
                      <a:pt x="5400" y="14569"/>
                      <a:pt x="0" y="14569"/>
                    </a:cubicBezTo>
                    <a:cubicBezTo>
                      <a:pt x="5400" y="14569"/>
                      <a:pt x="10800" y="15469"/>
                      <a:pt x="10800" y="1636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131840" y="24808680"/>
                <a:ext cx="1119600" cy="375120"/>
              </a:xfrm>
              <a:noFill/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state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28133640" y="24797160"/>
                <a:ext cx="167040" cy="1123560"/>
              </a:xfrm>
              <a:custGeom>
                <a:avLst/>
                <a:gdLst>
                  <a:gd name="textAreaLeft" fmla="*/ 106920 w 167040"/>
                  <a:gd name="textAreaRight" fmla="*/ 167400 w 167040"/>
                  <a:gd name="textAreaTop" fmla="*/ 29160 h 1123560"/>
                  <a:gd name="textAreaBottom" fmla="*/ 1094400 h 112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6200"/>
                    </a:lnTo>
                    <a:cubicBezTo>
                      <a:pt x="10800" y="17100"/>
                      <a:pt x="5400" y="18000"/>
                      <a:pt x="0" y="18000"/>
                    </a:cubicBezTo>
                    <a:cubicBezTo>
                      <a:pt x="5400" y="18000"/>
                      <a:pt x="10800" y="18900"/>
                      <a:pt x="10800" y="198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810360" y="23090040"/>
                <a:ext cx="1069200" cy="631440"/>
              </a:xfrm>
              <a:noFill/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ancreatic Cancer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043080" y="22936320"/>
                <a:ext cx="2050920" cy="375120"/>
              </a:xfrm>
              <a:noFill/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reast Cancer Cell Lin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899880" y="23241600"/>
                <a:ext cx="1511640" cy="375120"/>
              </a:xfrm>
              <a:noFill/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l Brai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305240" y="23556960"/>
                <a:ext cx="1264680" cy="631440"/>
              </a:xfrm>
              <a:noFill/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mal Breas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ulk Tissu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400000">
                <a:off x="29814480" y="25013880"/>
                <a:ext cx="124920" cy="643320"/>
              </a:xfrm>
              <a:custGeom>
                <a:avLst/>
                <a:gdLst>
                  <a:gd name="textAreaLeft" fmla="*/ 79920 w 124920"/>
                  <a:gd name="textAreaRight" fmla="*/ 125280 w 124920"/>
                  <a:gd name="textAreaTop" fmla="*/ 16560 h 643320"/>
                  <a:gd name="textAreaBottom" fmla="*/ 626760 h 64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804"/>
                    </a:lnTo>
                    <a:cubicBezTo>
                      <a:pt x="10800" y="11704"/>
                      <a:pt x="5400" y="12604"/>
                      <a:pt x="0" y="12604"/>
                    </a:cubicBezTo>
                    <a:cubicBezTo>
                      <a:pt x="5400" y="12604"/>
                      <a:pt x="10800" y="13504"/>
                      <a:pt x="10800" y="14404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400000">
                <a:off x="31041720" y="25224120"/>
                <a:ext cx="157320" cy="273960"/>
              </a:xfrm>
              <a:custGeom>
                <a:avLst/>
                <a:gdLst>
                  <a:gd name="textAreaLeft" fmla="*/ 100440 w 157320"/>
                  <a:gd name="textAreaRight" fmla="*/ 157680 w 157320"/>
                  <a:gd name="textAreaTop" fmla="*/ 6840 h 273960"/>
                  <a:gd name="textAreaBottom" fmla="*/ 267120 h 27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48"/>
                    </a:lnTo>
                    <a:cubicBezTo>
                      <a:pt x="10800" y="9848"/>
                      <a:pt x="5400" y="10748"/>
                      <a:pt x="0" y="10748"/>
                    </a:cubicBezTo>
                    <a:cubicBezTo>
                      <a:pt x="5400" y="10748"/>
                      <a:pt x="10800" y="11648"/>
                      <a:pt x="10800" y="12548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30562920" y="25225920"/>
                <a:ext cx="158400" cy="269640"/>
              </a:xfrm>
              <a:custGeom>
                <a:avLst/>
                <a:gdLst>
                  <a:gd name="textAreaLeft" fmla="*/ 101160 w 158400"/>
                  <a:gd name="textAreaRight" fmla="*/ 158760 w 158400"/>
                  <a:gd name="textAreaTop" fmla="*/ 6840 h 269640"/>
                  <a:gd name="textAreaBottom" fmla="*/ 262800 h 26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48"/>
                    </a:lnTo>
                    <a:cubicBezTo>
                      <a:pt x="10800" y="9848"/>
                      <a:pt x="5400" y="10748"/>
                      <a:pt x="0" y="10748"/>
                    </a:cubicBezTo>
                    <a:cubicBezTo>
                      <a:pt x="5400" y="10748"/>
                      <a:pt x="10800" y="11648"/>
                      <a:pt x="10800" y="12548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400000">
                <a:off x="29230920" y="25130160"/>
                <a:ext cx="124920" cy="428040"/>
              </a:xfrm>
              <a:custGeom>
                <a:avLst/>
                <a:gdLst>
                  <a:gd name="textAreaLeft" fmla="*/ 79920 w 124920"/>
                  <a:gd name="textAreaRight" fmla="*/ 125280 w 124920"/>
                  <a:gd name="textAreaTop" fmla="*/ 11160 h 428040"/>
                  <a:gd name="textAreaBottom" fmla="*/ 416880 h 42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948"/>
                    </a:lnTo>
                    <a:cubicBezTo>
                      <a:pt x="10800" y="9848"/>
                      <a:pt x="5400" y="10748"/>
                      <a:pt x="0" y="10748"/>
                    </a:cubicBezTo>
                    <a:cubicBezTo>
                      <a:pt x="5400" y="10748"/>
                      <a:pt x="10800" y="11648"/>
                      <a:pt x="10800" y="12548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1" name=""/>
          <p:cNvGraphicFramePr/>
          <p:nvPr/>
        </p:nvGraphicFramePr>
        <p:xfrm>
          <a:off x="33832800" y="12496680"/>
          <a:ext cx="8601120" cy="599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32800" y="12496680"/>
                    <a:ext cx="8601120" cy="59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33451920" y="25298280"/>
            <a:ext cx="9372600" cy="5334120"/>
            <a:chOff x="33451920" y="25298280"/>
            <a:chExt cx="9372600" cy="5334120"/>
          </a:xfrm>
        </p:grpSpPr>
        <p:sp>
          <p:nvSpPr>
            <p:cNvPr id="124" name=""/>
            <p:cNvSpPr/>
            <p:nvPr/>
          </p:nvSpPr>
          <p:spPr>
            <a:xfrm>
              <a:off x="33451920" y="25298280"/>
              <a:ext cx="89913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6000" spc="-1" strike="noStrike">
                  <a:solidFill>
                    <a:srgbClr val="ff9933"/>
                  </a:solidFill>
                  <a:latin typeface="Verdana"/>
                </a:rPr>
                <a:t>IX.  Future Work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451920" y="26517600"/>
              <a:ext cx="9372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Auxiliary information about the libraries may provided more insight into the clustering structures.  (Lack of complexity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Awaiting for more data to get more statistically sounded result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799"/>
                </a:spcBef>
                <a:buClr>
                  <a:srgbClr val="ffcc66"/>
                </a:buClr>
                <a:buFont typeface="Verdana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Verdana"/>
                </a:rPr>
                <a:t>Use of other machine learning algorithm for classification (e.g. SVM, neural network etc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final-annotated2_horizontal" descr=""/>
          <p:cNvPicPr/>
          <p:nvPr/>
        </p:nvPicPr>
        <p:blipFill>
          <a:blip r:embed="rId5"/>
          <a:stretch/>
        </p:blipFill>
        <p:spPr>
          <a:xfrm>
            <a:off x="23774400" y="27943200"/>
            <a:ext cx="8610480" cy="25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7" name=""/>
          <p:cNvGrpSpPr/>
          <p:nvPr/>
        </p:nvGrpSpPr>
        <p:grpSpPr>
          <a:xfrm>
            <a:off x="12268080" y="28117440"/>
            <a:ext cx="685800" cy="1524240"/>
            <a:chOff x="12268080" y="28117440"/>
            <a:chExt cx="685800" cy="1524240"/>
          </a:xfrm>
        </p:grpSpPr>
        <p:sp>
          <p:nvSpPr>
            <p:cNvPr id="128" name=""/>
            <p:cNvSpPr/>
            <p:nvPr/>
          </p:nvSpPr>
          <p:spPr>
            <a:xfrm>
              <a:off x="12268080" y="29641680"/>
              <a:ext cx="68580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268080" y="28117440"/>
              <a:ext cx="0" cy="15238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268080" y="28117800"/>
              <a:ext cx="6098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20:52:32Z</dcterms:created>
  <dc:creator>default user</dc:creator>
  <dc:description/>
  <dc:language>en-US</dc:language>
  <cp:lastModifiedBy>mack</cp:lastModifiedBy>
  <dcterms:modified xsi:type="dcterms:W3CDTF">2002-08-16T21:38:58Z</dcterms:modified>
  <cp:revision>62</cp:revision>
  <dc:subject/>
  <dc:title>PowerPoint Presentation</dc:title>
</cp:coreProperties>
</file>