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ECC-D993-48A2-A8DF-97B832F4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4352256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920" y="19825920"/>
            <a:ext cx="4352256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D11-6850-4B4F-A71A-7A329C27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920" y="1982592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1982592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1A0-76DD-4599-B091-F110864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6920" y="950904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280" y="950904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920" y="1982592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6920" y="1982592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280" y="19825920"/>
            <a:ext cx="14014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F43-D608-4750-9122-3930BB58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920" y="9509040"/>
            <a:ext cx="4352256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D39-AC22-4A15-B1DE-2A667381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4352256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BE5-5C48-42C1-BB27-1C672AD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2123892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3892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EE6-B6B5-4BAE-B0A1-A8326360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029-DFA7-4399-A7E9-30EE2DD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1920" y="2925720"/>
            <a:ext cx="4352256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158-B068-4914-96A5-45162D0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3892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920" y="1982592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2A2-CF0B-4C1A-9AB2-9C95FC6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2123892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1982592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583-D6CA-4BFC-AA46-948CB4FB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92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9509040"/>
            <a:ext cx="2123892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920" y="19825920"/>
            <a:ext cx="4352256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CDC-4D18-47CD-8ED7-49C4EBFE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920" y="2925720"/>
            <a:ext cx="4352256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920" y="9509040"/>
            <a:ext cx="4352256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9720" indent="-162972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4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5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  <a:p>
            <a:pPr lvl="6" marL="9776880" indent="-1085760">
              <a:spcBef>
                <a:spcPts val="3849"/>
              </a:spcBef>
              <a:buClr>
                <a:srgbClr val="000000"/>
              </a:buClr>
              <a:buFont typeface="Times New Roman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560" y="29992680"/>
            <a:ext cx="1066788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4200" y="29992680"/>
            <a:ext cx="16218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6240" y="29992680"/>
            <a:ext cx="1066788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57D54EA6-22E2-40C0-AE3C-3AE854B3DA0B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76520" y="1981080"/>
            <a:ext cx="168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. Raymond T. Ng, Timothy Hay Wung Chan, Byron Yu-Lin K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artment of Computer Science, University of British Columb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BC-Logo-over" descr=""/>
          <p:cNvPicPr/>
          <p:nvPr/>
        </p:nvPicPr>
        <p:blipFill>
          <a:blip r:embed="rId2"/>
          <a:stretch/>
        </p:blipFill>
        <p:spPr>
          <a:xfrm>
            <a:off x="3808440" y="228600"/>
            <a:ext cx="3389400" cy="37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8640" y="6248520"/>
            <a:ext cx="141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two cancers appear to be vastly different and would be good candidates to compare and contrast at the sub-cellular le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296280"/>
            <a:ext cx="141717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didate cancer related genes can be discovered by comparing the expression level of cancerous and normal SAGE libraries on a per-gene ba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ilarities between breast and brain cancers can be discovered by comparing the candidate ge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630400"/>
            <a:ext cx="1417176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wo-sample t-test of unequal variance to discover candidate brain cancer-related genes and breast cancer-related ge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iscover similar cancer-related genes between breast and brain canc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8640" y="20193120"/>
            <a:ext cx="411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duce the impact of sequencing errors, the tags that only have 0 and 1 counts across all breast and brain SAGE libraries are eliminat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81480" y="20116800"/>
          <a:ext cx="9325080" cy="3884400"/>
        </p:xfrm>
        <a:graphic>
          <a:graphicData uri="http://schemas.openxmlformats.org/drawingml/2006/table">
            <a:tbl>
              <a:tblPr/>
              <a:tblGrid>
                <a:gridCol w="1174680"/>
                <a:gridCol w="1805040"/>
                <a:gridCol w="1720800"/>
                <a:gridCol w="1687680"/>
                <a:gridCol w="1066680"/>
                <a:gridCol w="1870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7912080" y="457200"/>
            <a:ext cx="361821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ccffcc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alyzing Brain and Breast SAGE Libraries</a:t>
            </a:r>
            <a:endParaRPr b="0" lang="en-US" sz="8000" spc="1" strike="noStrike">
              <a:ln w="25560">
                <a:solidFill>
                  <a:srgbClr val="ccffcc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690480" y="27203400"/>
            <a:ext cx="388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g may map to more than one gene. To deal with this, the expression level of the tag is evenly divided and distribu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068680" y="502920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tags map to the same gene. In this situation, for each library, the highest expression level among these tags is chosen and assigned to the g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3317200" y="5181480"/>
          <a:ext cx="9720360" cy="2070360"/>
        </p:xfrm>
        <a:graphic>
          <a:graphicData uri="http://schemas.openxmlformats.org/drawingml/2006/table">
            <a:tbl>
              <a:tblPr/>
              <a:tblGrid>
                <a:gridCol w="1236600"/>
                <a:gridCol w="1249200"/>
                <a:gridCol w="1551240"/>
                <a:gridCol w="1482480"/>
                <a:gridCol w="1565280"/>
                <a:gridCol w="1032120"/>
                <a:gridCol w="160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7068680" y="9524880"/>
            <a:ext cx="561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duce comparison errors, the tag frequencies are normalized by scaling each library up to 300,00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012280" y="9677520"/>
          <a:ext cx="10034640" cy="3031920"/>
        </p:xfrm>
        <a:graphic>
          <a:graphicData uri="http://schemas.openxmlformats.org/drawingml/2006/table">
            <a:tbl>
              <a:tblPr/>
              <a:tblGrid>
                <a:gridCol w="1295280"/>
                <a:gridCol w="2497320"/>
                <a:gridCol w="2527200"/>
                <a:gridCol w="1028520"/>
                <a:gridCol w="2686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7068680" y="11810880"/>
            <a:ext cx="57675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riginal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otal original library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771760" y="11201400"/>
                <a:ext cx="2530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771760" y="10210680"/>
                <a:ext cx="2530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333120" y="10210680"/>
                <a:ext cx="2421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4333120" y="11201400"/>
                <a:ext cx="2421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353040" y="10210680"/>
                <a:ext cx="26859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353040" y="11201400"/>
                <a:ext cx="2685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6118800" y="27736920"/>
            <a:ext cx="1407960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rther biological research on the top ranked genes paying special attention to genes that are cancer related but have not yet been associated with the tissue under stud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same technique on different tissue libraries and compare results with each tiss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rive new innovative treatments from discovered data or reuse treatments on tissues that are similar at the sub-cellular le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068680" y="14782680"/>
            <a:ext cx="6096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ea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um of squares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pooled variance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eparately for both cancerous dataset and normal datas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wo-sample t-Test of unequal variance using these meas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639400" y="15087600"/>
                <a:ext cx="259236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eq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962440" y="15392520"/>
                <a:ext cx="182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117720" y="15316200"/>
                <a:ext cx="1827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3164920" y="14859000"/>
            <a:ext cx="99565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246160" y="17449920"/>
                <a:ext cx="3659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54440" y="1684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068680" y="21717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each tissue, rank the genes by sorting the t-values in descending or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069680" y="20802600"/>
          <a:ext cx="893124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69680" y="20802600"/>
                    <a:ext cx="8931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841160" y="26289000"/>
            <a:ext cx="21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68680" y="25984080"/>
            <a:ext cx="67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p ranked genes contained in both the brain and breast data are intersected in the hope to discover whether these two cancers display similar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4155280" y="25831800"/>
          <a:ext cx="10433160" cy="7086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55280" y="25831800"/>
                    <a:ext cx="104331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6916400" y="29260800"/>
            <a:ext cx="561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 of intersection between top 500 brain genes and top 500 breast genes:  26 genes inters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18800" y="4876920"/>
            <a:ext cx="145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nvestigation is conducted on the top ranked genes and the intersected genes for cancer-relation using the currently available literatures on Pub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118800" y="14401800"/>
          <a:ext cx="14401800" cy="2952720"/>
        </p:xfrm>
        <a:graphic>
          <a:graphicData uri="http://schemas.openxmlformats.org/drawingml/2006/table">
            <a:tbl>
              <a:tblPr/>
              <a:tblGrid>
                <a:gridCol w="2133720"/>
                <a:gridCol w="7467480"/>
                <a:gridCol w="2867040"/>
                <a:gridCol w="193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gene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 to cance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. 278479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PY-lik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Hs. 646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tein kinase C and casein kinase substrate in neurons 1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10238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Hs. 146580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olase 2, (gamma, neuronal)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7520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. 32080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6118800" y="10896480"/>
            <a:ext cx="1455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 Resul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east Dat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7 of top 30 genes are verif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ain Dat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5 of top 30 genes are verif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sected Ge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4 of 26 intersected gene are verif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118800" y="21031200"/>
            <a:ext cx="140796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his method appears to have some merit as many top ranked genes were found to be cancer-related.  However, those that were not verified, should not be ignored. Those genes could possibly be cancer-related but have not yet been investig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he lack of intersected genes and the low number of verified genes (4/26) suggest a low similarity between brain and breast canc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54040" y="4114800"/>
            <a:ext cx="251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C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8640" y="1813572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THO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81880"/>
            <a:ext cx="540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YPOTHE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335120"/>
            <a:ext cx="495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6118800" y="998208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SUL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118800" y="1943100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18800" y="2644128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UTURE DIRECTIO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068680" y="8763120"/>
            <a:ext cx="6934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 Pre-Processing:  Normalization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25831800"/>
            <a:ext cx="9523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 Pre-Processing:  Expression Level Splitting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068680" y="4114800"/>
            <a:ext cx="875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 Pre-Processing:  Tag-to-Gene Collapsing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8640" y="19354680"/>
            <a:ext cx="6934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a Pre-Processing:  Error Removal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068680" y="14096880"/>
            <a:ext cx="7315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wo-Sample t-Test of Unequal Variance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157600" y="20421720"/>
            <a:ext cx="5956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nking Genes by t-Values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068680" y="24841080"/>
            <a:ext cx="8178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mpare Brain Cancer and Breast Cancer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8640" y="5410080"/>
            <a:ext cx="8455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y Study Brain and Breast SAGE Data?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118800" y="4191120"/>
            <a:ext cx="4727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terature Verification</a:t>
            </a:r>
            <a:endParaRPr b="0" lang="en-US" sz="2400" spc="1" strike="noStrike">
              <a:ln w="1260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6118800" y="6400800"/>
            <a:ext cx="1396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 Criter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e is up-regulated or down-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e is an oncogene or binds to an oncog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ene is a major component of cell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29200" y="27812880"/>
          <a:ext cx="9448920" cy="2070360"/>
        </p:xfrm>
        <a:graphic>
          <a:graphicData uri="http://schemas.openxmlformats.org/drawingml/2006/table">
            <a:tbl>
              <a:tblPr/>
              <a:tblGrid>
                <a:gridCol w="2514600"/>
                <a:gridCol w="2362320"/>
                <a:gridCol w="2133360"/>
                <a:gridCol w="243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2/3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GCATT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2/3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4389480"/>
                          <a:tab algn="l" pos="877896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2/3 =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783680" y="30480120"/>
            <a:ext cx="711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320" y="2727972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0" y="27279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9:18:33Z</dcterms:created>
  <dc:creator>bkuo</dc:creator>
  <dc:description/>
  <dc:language>en-US</dc:language>
  <cp:lastModifiedBy>default user</cp:lastModifiedBy>
  <dcterms:modified xsi:type="dcterms:W3CDTF">2002-09-24T23:12:06Z</dcterms:modified>
  <cp:revision>58</cp:revision>
  <dc:subject/>
  <dc:title>PowerPoint Presentation</dc:title>
</cp:coreProperties>
</file>