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5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921120" y="-360"/>
            <a:ext cx="29973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8915040"/>
            <a:ext cx="29973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921120" y="8915040"/>
            <a:ext cx="29973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22B8A7-B433-4130-9A30-61A1B6B94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g represents on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tag sequence is always extracted from the same mRN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get the same tag for different mR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1 “SAGE Library” for each 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s need not be known in order to detect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Libraries on the SAGE website righ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cbi.nlm.nih.gov/SAG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like with microarray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mRNA sequences need not be known in adv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arge number of tags (dimen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ossible to map tags to genes and vice ver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little is known about each 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erarchical clustering algorithm can form nested clusters, like a “Taxonom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Distance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error removal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moves ~ 15% of the total tags per library and ~ 80% of the total unique t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00 is the estimated number of transcripts per cell at any on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hang, L., et al.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Gene Expression Profiles in Normal and Cancer Cells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cience, Vol. 276, 23 May 1997, pp. 1268 - 127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data mining techniques to gene expression da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ed clusters are similar to a tax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link effec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lusters are seen as one if they have a line of points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ep must be done Before norm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ilcoxon test is a non-parametric test that check whether two sets of values - in this case the set of Cancer expression values and the set of Normal expression values of a tag - are drawn from the same distribution. The two sets are sorted separately and then merged into a sorted sequ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the two sets of values are similar, the Cancer and Normal  values can be expected to be mixed very well in the resulting sequence - for instance Tag 2 in this example, those tags are NOT se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the degree of mixture deviates  significantly from that of the expected mixture - assuming the values come from the same distribution - the tag is selected. For instance T1 in this example: The Cancer expression values are all smaller than all Normal expression values (which is the most extreme c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ze clusters using the Wilcoxon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dentify tags that have significantly different frequencies between different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dentify which tags have similar frequencies within a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vestigate differences in resolution between different tissue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amine out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ome libraries did not form clusters –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each expression profile contains measurements for thousands of different m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-axis represents the number of cop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file is really like a finger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rs which are currently diagnosed and treated the same way may in fact have completely different causes and developmental path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similarities and differences between cancers may be detected through gene expression profile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g represents on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tag sequence is always extracted from the same mRN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get the same tag for different mR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1 “SAGE Library” for each 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s need not be known in order to detect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8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3619440" y="612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ugust 26,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2760840" y="5024520"/>
            <a:ext cx="363528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 baseline="30000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University of British Colu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†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niversity of Alb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2.xlsx"/><Relationship Id="rId7" Type="http://schemas.openxmlformats.org/officeDocument/2006/relationships/image" Target="../media/image7.wmf"/><Relationship Id="rId8" Type="http://schemas.openxmlformats.org/officeDocument/2006/relationships/package" Target="../embeddings/oleObject3.xlsx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Hierarchical Cluster Analysi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of  SAGE Dat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for Cancer Profi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Raymond T. Ng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宋体"/>
              </a:rPr>
              <a:t>*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Jörg Sander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宋体"/>
              </a:rPr>
              <a:t>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ea typeface="宋体"/>
              </a:rPr>
              <a:t>Monica C. Sleum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宋体"/>
              </a:rPr>
              <a:t>*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versity of British Columb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568480" y="6400800"/>
            <a:ext cx="33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http://www.sagenet.org/home/Description.ht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1905120"/>
            <a:ext cx="883944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1" name="SAGEModified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6407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The SAGE Metho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Why use SAGE data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Only complete meth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Publicly avail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Essentially unexamin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Well suited for computer analy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Features of the SAGE Da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Many different sour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Small number of libraries (data point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Large number of tags (dimension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Highly prone to sequencing err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Libraries are made from both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bulk tiss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cell li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Cluster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Area of active research in data-mi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Goals: to pl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Similar objects into the same clus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Different objects into different clus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We have been using two clustering algorith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CLARANS (non hierarchic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OPTICS (hierarchic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Clustering Methods and SAG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Detect groupings in data poi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Each library represents one point in      high-dimensional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Each tag represents one dimen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Distance Fun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here must be a defined distance from each point to every other poi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Compare the results of several distance functions such a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Euclidean Dist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Correlation Coeffici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Pre - Process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Error Remov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Normal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Missing Tag Impu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Subspace Sel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rror Remov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SAGE is highly prone to sequencing err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0% of the tags have errors in th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Remove those tag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appear no more often than once in any libr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his reduces the dimension from 350 000 to 58 52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rror Remov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810480" y="4965480"/>
            <a:ext cx="0" cy="5331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23320" y="5727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41200" y="1833480"/>
          <a:ext cx="8686800" cy="2936880"/>
        </p:xfrm>
        <a:graphic>
          <a:graphicData uri="http://schemas.openxmlformats.org/drawingml/2006/table">
            <a:tbl>
              <a:tblPr/>
              <a:tblGrid>
                <a:gridCol w="1197000"/>
                <a:gridCol w="1197000"/>
                <a:gridCol w="1197000"/>
                <a:gridCol w="1195560"/>
                <a:gridCol w="1198440"/>
                <a:gridCol w="1195560"/>
                <a:gridCol w="1506240"/>
              </a:tblGrid>
              <a:tr h="58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bra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ag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 flipV="1">
            <a:off x="4473720" y="4965480"/>
            <a:ext cx="0" cy="5331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560" y="5727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ormaliz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he total number of tags sequenced for each sample varies wide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Normalize by scaling up the total number of tags to 300 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What We Are Do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Clustering gene expression data to gain insights into similarities and differences i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Different tissue types (brain, breast, colon, etc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Cancerous and normal tiss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Different tissue sources (bulk tissue or cell lin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ormaliz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194680" y="4965480"/>
            <a:ext cx="0" cy="5331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88600" y="5727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41200" y="1833480"/>
          <a:ext cx="8686800" cy="2936880"/>
        </p:xfrm>
        <a:graphic>
          <a:graphicData uri="http://schemas.openxmlformats.org/drawingml/2006/table">
            <a:tbl>
              <a:tblPr/>
              <a:tblGrid>
                <a:gridCol w="1197000"/>
                <a:gridCol w="1197000"/>
                <a:gridCol w="1197000"/>
                <a:gridCol w="1195560"/>
                <a:gridCol w="1198440"/>
                <a:gridCol w="1195560"/>
                <a:gridCol w="1506240"/>
              </a:tblGrid>
              <a:tr h="58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bra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ag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ormaliz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8194680" y="4965480"/>
            <a:ext cx="0" cy="5331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88600" y="5727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41200" y="1833480"/>
          <a:ext cx="8686800" cy="2936880"/>
        </p:xfrm>
        <a:graphic>
          <a:graphicData uri="http://schemas.openxmlformats.org/drawingml/2006/table">
            <a:tbl>
              <a:tblPr/>
              <a:tblGrid>
                <a:gridCol w="1197000"/>
                <a:gridCol w="1197000"/>
                <a:gridCol w="1197000"/>
                <a:gridCol w="1195560"/>
                <a:gridCol w="1198440"/>
                <a:gridCol w="1195560"/>
                <a:gridCol w="1506240"/>
              </a:tblGrid>
              <a:tr h="58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bra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ag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CLARANS Clustering Algorith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A k-medoids algorith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ested CLARANS on 15 breast tissue libra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Could separate cancerous from normal libraries under some circumstan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Did not work on a large number of libra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Conclusion: need a hierarchical clustering algorith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OPTIC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Density B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Hierarchical (finds nested cluster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Similar to the nearest-neighbor method of hierarchical clustering, but weakens the single-link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28600" y="3505320"/>
          <a:ext cx="85345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05320"/>
                    <a:ext cx="85345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514600" y="0"/>
          <a:ext cx="3962520" cy="363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0"/>
                    <a:ext cx="39625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42" name=""/>
          <p:cNvCxnSpPr/>
          <p:nvPr/>
        </p:nvCxnSpPr>
        <p:spPr>
          <a:xfrm flipV="1" rot="10800000">
            <a:off x="1523160" y="1828440"/>
            <a:ext cx="1524960" cy="36583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3" name=""/>
          <p:cNvCxnSpPr/>
          <p:nvPr/>
        </p:nvCxnSpPr>
        <p:spPr>
          <a:xfrm flipH="1" flipV="1" rot="5400000">
            <a:off x="304200" y="3199680"/>
            <a:ext cx="5029920" cy="30564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344" name=""/>
          <p:cNvCxnSpPr/>
          <p:nvPr/>
        </p:nvCxnSpPr>
        <p:spPr>
          <a:xfrm flipV="1" rot="10800000">
            <a:off x="815400" y="2741760"/>
            <a:ext cx="2156400" cy="238464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3733920" y="4038480"/>
            <a:ext cx="46479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48520" y="5638680"/>
            <a:ext cx="2057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266720" y="2743200"/>
            <a:ext cx="1295640" cy="2819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 flipV="1" rot="16200000">
            <a:off x="4152600" y="2780640"/>
            <a:ext cx="4039560" cy="2439000"/>
          </a:xfrm>
          <a:prstGeom prst="bentConnector3">
            <a:avLst>
              <a:gd name="adj1" fmla="val 136470"/>
            </a:avLst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349" name=""/>
          <p:cNvCxnSpPr/>
          <p:nvPr/>
        </p:nvCxnSpPr>
        <p:spPr>
          <a:xfrm flipV="1" rot="16200000">
            <a:off x="3771360" y="3237840"/>
            <a:ext cx="4191840" cy="1220040"/>
          </a:xfrm>
          <a:prstGeom prst="bentConnector3">
            <a:avLst>
              <a:gd name="adj1" fmla="val 114841"/>
            </a:avLst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50" name=""/>
          <p:cNvSpPr/>
          <p:nvPr/>
        </p:nvSpPr>
        <p:spPr>
          <a:xfrm flipH="1">
            <a:off x="5486400" y="2057400"/>
            <a:ext cx="533520" cy="358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0800000">
            <a:off x="5327280" y="1758960"/>
            <a:ext cx="165240" cy="3938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0080 h 393840"/>
              <a:gd name="textAreaBottom" fmla="*/ 383760 h 3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6191280" y="1390680"/>
            <a:ext cx="203040" cy="1396800"/>
          </a:xfrm>
          <a:custGeom>
            <a:avLst/>
            <a:gdLst>
              <a:gd name="textAreaLeft" fmla="*/ 129600 w 203040"/>
              <a:gd name="textAreaRight" fmla="*/ 203400 w 203040"/>
              <a:gd name="textAreaTop" fmla="*/ 36360 h 1396800"/>
              <a:gd name="textAreaBottom" fmla="*/ 1360440 h 139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 flipV="1" rot="5400000">
            <a:off x="1447920" y="4266000"/>
            <a:ext cx="152280" cy="30492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 rot="5400000">
            <a:off x="1981080" y="4266000"/>
            <a:ext cx="152280" cy="304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 rot="5400000">
            <a:off x="2666880" y="4191120"/>
            <a:ext cx="152640" cy="304560"/>
          </a:xfrm>
          <a:custGeom>
            <a:avLst/>
            <a:gdLst>
              <a:gd name="textAreaLeft" fmla="*/ 97560 w 152640"/>
              <a:gd name="textAreaRight" fmla="*/ 153000 w 15264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 rot="5400000">
            <a:off x="2971440" y="4190760"/>
            <a:ext cx="152640" cy="304920"/>
          </a:xfrm>
          <a:custGeom>
            <a:avLst/>
            <a:gdLst>
              <a:gd name="textAreaLeft" fmla="*/ 97560 w 152640"/>
              <a:gd name="textAreaRight" fmla="*/ 15300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 rot="5400000">
            <a:off x="7353360" y="331344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11840" y="1756800"/>
            <a:ext cx="3020040" cy="36612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Brain Cancer Cell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76480" y="2290320"/>
            <a:ext cx="1165320" cy="36612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Prost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1560" y="2823480"/>
            <a:ext cx="1265760" cy="36612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Panc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22440" y="3430080"/>
            <a:ext cx="3409920" cy="36612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Brain and Vascular Tiss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18240" y="842400"/>
            <a:ext cx="3121920" cy="36612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Breast Cancer Cell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issing Value Impu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ze of the SAGE libraries varies wide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libraries are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trunca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ve so few tags that they will never cluster with other librar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ution: fill in missing values using other libraries from the same categ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issing Value Impu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dentify libraries with few total ta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dentify other libraries in the same category with enough ta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092240" y="1943280"/>
          <a:ext cx="6667560" cy="1825560"/>
        </p:xfrm>
        <a:graphic>
          <a:graphicData uri="http://schemas.openxmlformats.org/drawingml/2006/table">
            <a:tbl>
              <a:tblPr/>
              <a:tblGrid>
                <a:gridCol w="885600"/>
                <a:gridCol w="890640"/>
                <a:gridCol w="885960"/>
                <a:gridCol w="888840"/>
                <a:gridCol w="889200"/>
                <a:gridCol w="887400"/>
                <a:gridCol w="13399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ag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 flipH="1">
            <a:off x="7924320" y="2832120"/>
            <a:ext cx="6987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issing Value Impu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ale down the other librar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092240" y="1943280"/>
          <a:ext cx="6667560" cy="1825560"/>
        </p:xfrm>
        <a:graphic>
          <a:graphicData uri="http://schemas.openxmlformats.org/drawingml/2006/table">
            <a:tbl>
              <a:tblPr/>
              <a:tblGrid>
                <a:gridCol w="885600"/>
                <a:gridCol w="890640"/>
                <a:gridCol w="885960"/>
                <a:gridCol w="888840"/>
                <a:gridCol w="889200"/>
                <a:gridCol w="887400"/>
                <a:gridCol w="13399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ag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9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4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.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4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.0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9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6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6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7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4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9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 flipV="1">
            <a:off x="7118280" y="3968280"/>
            <a:ext cx="0" cy="6987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issing Value Impu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lace each 0 in the low tag library with the lowest non-zero frequency of the other librar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092240" y="1943280"/>
          <a:ext cx="6667560" cy="1825560"/>
        </p:xfrm>
        <a:graphic>
          <a:graphicData uri="http://schemas.openxmlformats.org/drawingml/2006/table">
            <a:tbl>
              <a:tblPr/>
              <a:tblGrid>
                <a:gridCol w="885600"/>
                <a:gridCol w="890640"/>
                <a:gridCol w="885960"/>
                <a:gridCol w="888840"/>
                <a:gridCol w="889200"/>
                <a:gridCol w="887400"/>
                <a:gridCol w="13399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ag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9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4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.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6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.0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4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.0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9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6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6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7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4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9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 flipH="1">
            <a:off x="7924320" y="2819520"/>
            <a:ext cx="6987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What is Gene Expressio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All cells in the human body contain the same DNA: the entire gen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Different cells use different genes in the gen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he genes that the cells are using are copied into mRNA, spliced, and translated to make prote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issing Value Impu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maliz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092240" y="1943280"/>
          <a:ext cx="6667560" cy="1825560"/>
        </p:xfrm>
        <a:graphic>
          <a:graphicData uri="http://schemas.openxmlformats.org/drawingml/2006/table">
            <a:tbl>
              <a:tblPr/>
              <a:tblGrid>
                <a:gridCol w="885600"/>
                <a:gridCol w="890640"/>
                <a:gridCol w="885960"/>
                <a:gridCol w="888840"/>
                <a:gridCol w="889200"/>
                <a:gridCol w="887400"/>
                <a:gridCol w="133992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ag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.7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4.7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9.4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.4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4.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 flipV="1">
            <a:off x="7118280" y="3968280"/>
            <a:ext cx="0" cy="6987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 flipV="1" rot="5400000">
            <a:off x="1447920" y="4266000"/>
            <a:ext cx="152280" cy="30492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 rot="5400000">
            <a:off x="1981080" y="4266000"/>
            <a:ext cx="152280" cy="304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5400000">
            <a:off x="2743200" y="4114800"/>
            <a:ext cx="152640" cy="4572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 rot="5400000">
            <a:off x="3170160" y="4191120"/>
            <a:ext cx="152640" cy="304560"/>
          </a:xfrm>
          <a:custGeom>
            <a:avLst/>
            <a:gdLst>
              <a:gd name="textAreaLeft" fmla="*/ 97560 w 152640"/>
              <a:gd name="textAreaRight" fmla="*/ 153000 w 15264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 rot="5400000">
            <a:off x="7429320" y="3313440"/>
            <a:ext cx="152280" cy="38088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11840" y="1756800"/>
            <a:ext cx="3020040" cy="36612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Brain Cancer Cell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76480" y="2290320"/>
            <a:ext cx="1165320" cy="36612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Prost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1560" y="2823480"/>
            <a:ext cx="1265760" cy="36612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Panc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21160" y="3430080"/>
            <a:ext cx="3409920" cy="36612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Brain and Vascular Tiss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18240" y="842400"/>
            <a:ext cx="3121920" cy="36612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Breast Cancer Cell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ubspace Selection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sing the Wilcoxon Tes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dentify those tags which are significantly different between cancerous and normal libra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5 354 tags out of 58 524 tags were selec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move those tags which only differentiate between bulk and cell line t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6 of the remaining tags were remov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ubspace Selection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sing the Wilcoxon Tes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743360" y="2212920"/>
          <a:ext cx="3871800" cy="2555640"/>
        </p:xfrm>
        <a:graphic>
          <a:graphicData uri="http://schemas.openxmlformats.org/drawingml/2006/table">
            <a:tbl>
              <a:tblPr/>
              <a:tblGrid>
                <a:gridCol w="1207800"/>
                <a:gridCol w="890640"/>
                <a:gridCol w="885960"/>
                <a:gridCol w="8874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56002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1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56002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ag 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56002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56002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0011"/>
                          </a:solidFill>
                          <a:latin typeface="Times New Roman"/>
                        </a:rPr>
                        <a:t>Cancer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0011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0011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0011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NormalB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0011"/>
                          </a:solidFill>
                          <a:latin typeface="Times New Roman"/>
                        </a:rPr>
                        <a:t>CancerC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0011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0011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0011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NormalD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Normal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0011"/>
                          </a:solidFill>
                          <a:latin typeface="Times New Roman"/>
                        </a:rPr>
                        <a:t>CancerF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0011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0011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20011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888840" y="5195880"/>
          <a:ext cx="5081400" cy="365040"/>
        </p:xfrm>
        <a:graphic>
          <a:graphicData uri="http://schemas.openxmlformats.org/drawingml/2006/table">
            <a:tbl>
              <a:tblPr/>
              <a:tblGrid>
                <a:gridCol w="847800"/>
                <a:gridCol w="846000"/>
                <a:gridCol w="847800"/>
                <a:gridCol w="846000"/>
                <a:gridCol w="847800"/>
                <a:gridCol w="8460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884160" y="6148440"/>
          <a:ext cx="5081400" cy="365040"/>
        </p:xfrm>
        <a:graphic>
          <a:graphicData uri="http://schemas.openxmlformats.org/drawingml/2006/table">
            <a:tbl>
              <a:tblPr/>
              <a:tblGrid>
                <a:gridCol w="847440"/>
                <a:gridCol w="846360"/>
                <a:gridCol w="847440"/>
                <a:gridCol w="846360"/>
                <a:gridCol w="847800"/>
                <a:gridCol w="846000"/>
              </a:tblGrid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6002b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6002b"/>
                      </a:solidFill>
                    </a:lnL>
                    <a:lnR w="5760">
                      <a:solidFill>
                        <a:srgbClr val="56002b"/>
                      </a:solidFill>
                    </a:lnR>
                    <a:lnT w="5760">
                      <a:solidFill>
                        <a:srgbClr val="56002b"/>
                      </a:solidFill>
                    </a:lnT>
                    <a:lnB w="5760">
                      <a:solidFill>
                        <a:srgbClr val="56002b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03" name=""/>
          <p:cNvSpPr/>
          <p:nvPr/>
        </p:nvSpPr>
        <p:spPr>
          <a:xfrm>
            <a:off x="910440" y="472284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ject Tag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78040" y="5703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pt Tag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05" name=""/>
          <p:cNvCxnSpPr/>
          <p:nvPr/>
        </p:nvCxnSpPr>
        <p:spPr>
          <a:xfrm rot="5400000">
            <a:off x="5878800" y="4860000"/>
            <a:ext cx="610200" cy="427680"/>
          </a:xfrm>
          <a:prstGeom prst="bentConnector2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  <p:cxnSp>
        <p:nvCxnSpPr>
          <p:cNvPr id="406" name=""/>
          <p:cNvCxnSpPr/>
          <p:nvPr/>
        </p:nvCxnSpPr>
        <p:spPr>
          <a:xfrm rot="5400000">
            <a:off x="5843880" y="4890240"/>
            <a:ext cx="1562760" cy="1319760"/>
          </a:xfrm>
          <a:prstGeom prst="bentConnector2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509760" y="1835280"/>
            <a:ext cx="408600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For each tag: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Sort the tag frequencie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Test whether the resulting list deviates significantly from a random mixture of cancerous and normal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 flipV="1" rot="5400000">
            <a:off x="3035160" y="1739880"/>
            <a:ext cx="139680" cy="1054080"/>
          </a:xfrm>
          <a:custGeom>
            <a:avLst/>
            <a:gdLst>
              <a:gd name="textAreaLeft" fmla="*/ 89280 w 139680"/>
              <a:gd name="textAreaRight" fmla="*/ 140040 w 139680"/>
              <a:gd name="textAreaTop" fmla="*/ 27360 h 1054080"/>
              <a:gd name="textAreaBottom" fmla="*/ 1026720 h 105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2624"/>
                </a:lnTo>
                <a:cubicBezTo>
                  <a:pt x="10800" y="3524"/>
                  <a:pt x="5400" y="4424"/>
                  <a:pt x="0" y="4424"/>
                </a:cubicBezTo>
                <a:cubicBezTo>
                  <a:pt x="5400" y="4424"/>
                  <a:pt x="10800" y="5324"/>
                  <a:pt x="10800" y="622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 rot="5400000">
            <a:off x="4146120" y="1872000"/>
            <a:ext cx="101880" cy="876240"/>
          </a:xfrm>
          <a:custGeom>
            <a:avLst/>
            <a:gdLst>
              <a:gd name="textAreaLeft" fmla="*/ 65160 w 101880"/>
              <a:gd name="textAreaRight" fmla="*/ 102240 w 10188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 rot="5400000">
            <a:off x="2361960" y="2132280"/>
            <a:ext cx="88920" cy="292320"/>
          </a:xfrm>
          <a:custGeom>
            <a:avLst/>
            <a:gdLst>
              <a:gd name="textAreaLeft" fmla="*/ 56880 w 88920"/>
              <a:gd name="textAreaRight" fmla="*/ 89280 w 88920"/>
              <a:gd name="textAreaTop" fmla="*/ 7560 h 292320"/>
              <a:gd name="textAreaBottom" fmla="*/ 284760 h 29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 rot="5400000">
            <a:off x="5157720" y="2038320"/>
            <a:ext cx="139680" cy="432000"/>
          </a:xfrm>
          <a:custGeom>
            <a:avLst/>
            <a:gdLst>
              <a:gd name="textAreaLeft" fmla="*/ 89280 w 139680"/>
              <a:gd name="textAreaRight" fmla="*/ 140040 w 1396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76"/>
                </a:lnTo>
                <a:cubicBezTo>
                  <a:pt x="10800" y="10376"/>
                  <a:pt x="5400" y="11276"/>
                  <a:pt x="0" y="11276"/>
                </a:cubicBezTo>
                <a:cubicBezTo>
                  <a:pt x="5400" y="11276"/>
                  <a:pt x="10800" y="12176"/>
                  <a:pt x="10800" y="130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 rot="5400000">
            <a:off x="6870600" y="1954440"/>
            <a:ext cx="152280" cy="355680"/>
          </a:xfrm>
          <a:custGeom>
            <a:avLst/>
            <a:gdLst>
              <a:gd name="textAreaLeft" fmla="*/ 97200 w 152280"/>
              <a:gd name="textAreaRight" fmla="*/ 152640 w 152280"/>
              <a:gd name="textAreaTop" fmla="*/ 9000 h 355680"/>
              <a:gd name="textAreaBottom" fmla="*/ 346680 h 3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84400" y="1044000"/>
            <a:ext cx="1994040" cy="61020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Ovarian and Brain Cancer Cell Li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61960" y="1780920"/>
            <a:ext cx="1000800" cy="30528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Prost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79640" y="612360"/>
            <a:ext cx="1086120" cy="30528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Pancre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56840" y="177480"/>
            <a:ext cx="2876760" cy="30528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Brain and Vascular Tiss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46080" y="1310760"/>
            <a:ext cx="1363320" cy="305280"/>
          </a:xfrm>
          <a:noFill/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Bulk Col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 rot="5400000">
            <a:off x="6299280" y="2043720"/>
            <a:ext cx="152280" cy="355320"/>
          </a:xfrm>
          <a:custGeom>
            <a:avLst/>
            <a:gdLst>
              <a:gd name="textAreaLeft" fmla="*/ 97200 w 152280"/>
              <a:gd name="textAreaRight" fmla="*/ 152640 w 152280"/>
              <a:gd name="textAreaTop" fmla="*/ 9000 h 355320"/>
              <a:gd name="textAreaBottom" fmla="*/ 346320 h 35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67640" y="929880"/>
            <a:ext cx="1589040" cy="30528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Normal Br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 rot="5400000">
            <a:off x="5886360" y="1987560"/>
            <a:ext cx="101520" cy="469800"/>
          </a:xfrm>
          <a:custGeom>
            <a:avLst/>
            <a:gdLst>
              <a:gd name="textAreaLeft" fmla="*/ 64800 w 101520"/>
              <a:gd name="textAreaRight" fmla="*/ 101880 w 101520"/>
              <a:gd name="textAreaTop" fmla="*/ 12240 h 469800"/>
              <a:gd name="textAreaBottom" fmla="*/ 457560 h 46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4"/>
                </a:lnTo>
                <a:cubicBezTo>
                  <a:pt x="10800" y="9754"/>
                  <a:pt x="5400" y="10654"/>
                  <a:pt x="0" y="10654"/>
                </a:cubicBezTo>
                <a:cubicBezTo>
                  <a:pt x="5400" y="10654"/>
                  <a:pt x="10800" y="11554"/>
                  <a:pt x="10800" y="124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59600" y="586800"/>
            <a:ext cx="2818800" cy="30528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Brain Cancer Bulk Tiss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 rot="5400000">
            <a:off x="1911240" y="2025720"/>
            <a:ext cx="152640" cy="520560"/>
          </a:xfrm>
          <a:custGeom>
            <a:avLst/>
            <a:gdLst>
              <a:gd name="textAreaLeft" fmla="*/ 97560 w 152640"/>
              <a:gd name="textAreaRight" fmla="*/ 153000 w 152640"/>
              <a:gd name="textAreaTop" fmla="*/ 13320 h 520560"/>
              <a:gd name="textAreaBottom" fmla="*/ 507240 h 52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234"/>
                </a:lnTo>
                <a:cubicBezTo>
                  <a:pt x="10800" y="7134"/>
                  <a:pt x="5400" y="8034"/>
                  <a:pt x="0" y="8034"/>
                </a:cubicBezTo>
                <a:cubicBezTo>
                  <a:pt x="5400" y="8034"/>
                  <a:pt x="10800" y="8934"/>
                  <a:pt x="10800" y="983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14640" y="133200"/>
            <a:ext cx="2622600" cy="30528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Breast Cancer Cell Li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 flipV="1" rot="5400000">
            <a:off x="2342880" y="2216160"/>
            <a:ext cx="152640" cy="5968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480 h 596880"/>
              <a:gd name="textAreaBottom" fmla="*/ 58140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2508"/>
                </a:lnTo>
                <a:cubicBezTo>
                  <a:pt x="10800" y="3408"/>
                  <a:pt x="5400" y="4308"/>
                  <a:pt x="0" y="4308"/>
                </a:cubicBezTo>
                <a:cubicBezTo>
                  <a:pt x="5400" y="4308"/>
                  <a:pt x="10800" y="5208"/>
                  <a:pt x="10800" y="61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 rot="5400000">
            <a:off x="4800600" y="1929240"/>
            <a:ext cx="127080" cy="1117800"/>
          </a:xfrm>
          <a:custGeom>
            <a:avLst/>
            <a:gdLst>
              <a:gd name="textAreaLeft" fmla="*/ 81360 w 127080"/>
              <a:gd name="textAreaRight" fmla="*/ 127440 w 127080"/>
              <a:gd name="textAreaTop" fmla="*/ 29160 h 1117800"/>
              <a:gd name="textAreaBottom" fmla="*/ 1088640 h 11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2006"/>
                </a:lnTo>
                <a:cubicBezTo>
                  <a:pt x="10800" y="12906"/>
                  <a:pt x="5400" y="13806"/>
                  <a:pt x="0" y="13806"/>
                </a:cubicBezTo>
                <a:cubicBezTo>
                  <a:pt x="5400" y="13806"/>
                  <a:pt x="10800" y="14706"/>
                  <a:pt x="10800" y="1560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 rot="5400000">
            <a:off x="7797600" y="2018160"/>
            <a:ext cx="152280" cy="38088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869"/>
                </a:lnTo>
                <a:cubicBezTo>
                  <a:pt x="10800" y="4769"/>
                  <a:pt x="5400" y="5669"/>
                  <a:pt x="0" y="5669"/>
                </a:cubicBezTo>
                <a:cubicBezTo>
                  <a:pt x="5400" y="5669"/>
                  <a:pt x="10800" y="6569"/>
                  <a:pt x="10800" y="746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22520" y="612360"/>
            <a:ext cx="2547360" cy="30528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Brain Cancer Cell Li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22400" y="2026800"/>
            <a:ext cx="1000800" cy="30528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Prost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43560" y="1526760"/>
            <a:ext cx="2024640" cy="30528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Pancreatic Canc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62920" y="640800"/>
            <a:ext cx="1081080" cy="61020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Normal Brea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5520" y="169560"/>
            <a:ext cx="1627200" cy="610200"/>
          </a:xfrm>
          <a:noFill/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Breast Cancer Cell Li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5400000">
            <a:off x="3530520" y="2106720"/>
            <a:ext cx="114120" cy="825840"/>
          </a:xfrm>
          <a:custGeom>
            <a:avLst/>
            <a:gdLst>
              <a:gd name="textAreaLeft" fmla="*/ 73080 w 114120"/>
              <a:gd name="textAreaRight" fmla="*/ 114480 w 114120"/>
              <a:gd name="textAreaTop" fmla="*/ 21240 h 825840"/>
              <a:gd name="textAreaBottom" fmla="*/ 804600 h 82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11800" y="1069560"/>
            <a:ext cx="2818800" cy="305280"/>
          </a:xfrm>
          <a:noFill/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Brain Cancer Bulk Tiss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 rot="5400000">
            <a:off x="1765080" y="2260440"/>
            <a:ext cx="139680" cy="520920"/>
          </a:xfrm>
          <a:custGeom>
            <a:avLst/>
            <a:gdLst>
              <a:gd name="textAreaLeft" fmla="*/ 89280 w 139680"/>
              <a:gd name="textAreaRight" fmla="*/ 140040 w 139680"/>
              <a:gd name="textAreaTop" fmla="*/ 13320 h 520920"/>
              <a:gd name="textAreaBottom" fmla="*/ 507600 h 52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5443"/>
                </a:lnTo>
                <a:cubicBezTo>
                  <a:pt x="10800" y="6343"/>
                  <a:pt x="5400" y="7243"/>
                  <a:pt x="0" y="7243"/>
                </a:cubicBezTo>
                <a:cubicBezTo>
                  <a:pt x="5400" y="7243"/>
                  <a:pt x="10800" y="8143"/>
                  <a:pt x="10800" y="90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45440" y="167760"/>
            <a:ext cx="2803680" cy="30528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Ovarian Cancer Cell Lin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 rot="5400000">
            <a:off x="5931000" y="2235240"/>
            <a:ext cx="139680" cy="520560"/>
          </a:xfrm>
          <a:custGeom>
            <a:avLst/>
            <a:gdLst>
              <a:gd name="textAreaLeft" fmla="*/ 89280 w 139680"/>
              <a:gd name="textAreaRight" fmla="*/ 140040 w 139680"/>
              <a:gd name="textAreaTop" fmla="*/ 13320 h 520560"/>
              <a:gd name="textAreaBottom" fmla="*/ 507240 h 52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5443"/>
                </a:lnTo>
                <a:cubicBezTo>
                  <a:pt x="10800" y="6343"/>
                  <a:pt x="5400" y="7243"/>
                  <a:pt x="0" y="7243"/>
                </a:cubicBezTo>
                <a:cubicBezTo>
                  <a:pt x="5400" y="7243"/>
                  <a:pt x="10800" y="8143"/>
                  <a:pt x="10800" y="90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 rot="5400000">
            <a:off x="6597360" y="2126160"/>
            <a:ext cx="88920" cy="736560"/>
          </a:xfrm>
          <a:custGeom>
            <a:avLst/>
            <a:gdLst>
              <a:gd name="textAreaLeft" fmla="*/ 56880 w 88920"/>
              <a:gd name="textAreaRight" fmla="*/ 89280 w 88920"/>
              <a:gd name="textAreaTop" fmla="*/ 19080 h 736560"/>
              <a:gd name="textAreaBottom" fmla="*/ 717480 h 73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929"/>
                </a:lnTo>
                <a:cubicBezTo>
                  <a:pt x="10800" y="8829"/>
                  <a:pt x="5400" y="9729"/>
                  <a:pt x="0" y="9729"/>
                </a:cubicBezTo>
                <a:cubicBezTo>
                  <a:pt x="5400" y="9729"/>
                  <a:pt x="10800" y="10629"/>
                  <a:pt x="10800" y="115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515360" y="210600"/>
            <a:ext cx="1628640" cy="305280"/>
          </a:xfrm>
          <a:solidFill>
            <a:srgbClr val="ffffff"/>
          </a:solidFill>
          <a:ln w="9360">
            <a:solidFill>
              <a:srgbClr val="22001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0011"/>
                </a:solidFill>
                <a:latin typeface="Times New Roman"/>
              </a:rPr>
              <a:t>Normal Br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 rot="5400000">
            <a:off x="7404120" y="2043720"/>
            <a:ext cx="152280" cy="330120"/>
          </a:xfrm>
          <a:custGeom>
            <a:avLst/>
            <a:gdLst>
              <a:gd name="textAreaLeft" fmla="*/ 97200 w 152280"/>
              <a:gd name="textAreaRight" fmla="*/ 152640 w 152280"/>
              <a:gd name="textAreaTop" fmla="*/ 8280 h 330120"/>
              <a:gd name="textAreaBottom" fmla="*/ 3218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742"/>
                </a:lnTo>
                <a:cubicBezTo>
                  <a:pt x="10800" y="5642"/>
                  <a:pt x="5400" y="6542"/>
                  <a:pt x="0" y="6542"/>
                </a:cubicBezTo>
                <a:cubicBezTo>
                  <a:pt x="5400" y="6542"/>
                  <a:pt x="10800" y="7442"/>
                  <a:pt x="10800" y="83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SAGE method clearly generates reproducible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quality of SAGE data can be improved by pre-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GE libraries clus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st by tissue ty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n by neoplastic st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n by tissue sour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parent relationship between ovarian and brain cancer cell lin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evidence of cancer subclusters was found in this small sam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SAGE data is nee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Ongoing 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Analyze clusters using the Wilcoxon 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Investigate differences in resolution between different tissue typ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Examine outli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other data mining techniques on the SAGE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our pre-processing and clustering methods on other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e results to treatment and out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What is Gene Expressio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1360" y="281952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1720" y="41911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5486400"/>
            <a:ext cx="1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8840" y="26701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e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41600" y="26668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e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92840" y="26668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e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5407920" y="2609640"/>
            <a:ext cx="168480" cy="1095480"/>
          </a:xfrm>
          <a:prstGeom prst="rect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978000" y="2535120"/>
            <a:ext cx="168120" cy="1251000"/>
          </a:xfrm>
          <a:prstGeom prst="rect">
            <a:avLst/>
          </a:prstGeom>
          <a:solidFill>
            <a:srgbClr val="0000ff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2491560" y="2612160"/>
            <a:ext cx="168120" cy="1093680"/>
          </a:xfrm>
          <a:prstGeom prst="rect">
            <a:avLst/>
          </a:prstGeom>
          <a:solidFill>
            <a:srgbClr val="ff00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5462640" y="3748320"/>
            <a:ext cx="55440" cy="1064880"/>
          </a:xfrm>
          <a:prstGeom prst="rect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034160" y="3664800"/>
            <a:ext cx="55440" cy="1231560"/>
          </a:xfrm>
          <a:prstGeom prst="rect">
            <a:avLst/>
          </a:prstGeom>
          <a:solidFill>
            <a:srgbClr val="0000ff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2550600" y="3747960"/>
            <a:ext cx="55440" cy="1065240"/>
          </a:xfrm>
          <a:prstGeom prst="rect">
            <a:avLst/>
          </a:prstGeom>
          <a:solidFill>
            <a:srgbClr val="ff00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462280" y="3859200"/>
            <a:ext cx="55800" cy="1064880"/>
          </a:xfrm>
          <a:prstGeom prst="rect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5462280" y="3971880"/>
            <a:ext cx="55800" cy="1064880"/>
          </a:xfrm>
          <a:prstGeom prst="rect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5461560" y="4083840"/>
            <a:ext cx="57240" cy="1064880"/>
          </a:xfrm>
          <a:prstGeom prst="rect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550600" y="3859200"/>
            <a:ext cx="55800" cy="1065240"/>
          </a:xfrm>
          <a:prstGeom prst="rect">
            <a:avLst/>
          </a:prstGeom>
          <a:solidFill>
            <a:srgbClr val="ff00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5801760" y="5984640"/>
            <a:ext cx="160560" cy="1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5744880" y="5816520"/>
            <a:ext cx="160200" cy="1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5520960" y="5816520"/>
            <a:ext cx="160200" cy="1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5690520" y="6208560"/>
            <a:ext cx="160560" cy="1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5299200" y="5985360"/>
            <a:ext cx="160560" cy="1652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5161680" y="6258600"/>
            <a:ext cx="160200" cy="164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5493600" y="6337080"/>
            <a:ext cx="160560" cy="1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5243400" y="5776560"/>
            <a:ext cx="160200" cy="1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5520960" y="6040440"/>
            <a:ext cx="160200" cy="1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5744880" y="5618160"/>
            <a:ext cx="158760" cy="1652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5744880" y="6418080"/>
            <a:ext cx="158760" cy="1652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5498280" y="6541920"/>
            <a:ext cx="160560" cy="1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4067640" y="5817240"/>
            <a:ext cx="160200" cy="1652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4064760" y="6041160"/>
            <a:ext cx="162000" cy="1670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900600" y="5721840"/>
            <a:ext cx="160560" cy="1652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665800" y="5704560"/>
            <a:ext cx="158760" cy="1666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2391840" y="5689440"/>
            <a:ext cx="160560" cy="1666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2667600" y="6098400"/>
            <a:ext cx="160200" cy="165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2162520" y="5704560"/>
            <a:ext cx="158760" cy="1666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559240" y="5929920"/>
            <a:ext cx="160560" cy="165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331360" y="5929200"/>
            <a:ext cx="160560" cy="1666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444400" y="6097680"/>
            <a:ext cx="158760" cy="165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2163240" y="5984640"/>
            <a:ext cx="160560" cy="1666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815640" y="5960880"/>
            <a:ext cx="160560" cy="16668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5352480" y="6208560"/>
            <a:ext cx="160560" cy="1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5299560" y="6433200"/>
            <a:ext cx="160200" cy="1652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465160" y="5592600"/>
            <a:ext cx="160560" cy="1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5077080" y="6017400"/>
            <a:ext cx="158760" cy="1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62640" y="3355920"/>
            <a:ext cx="0" cy="728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06800" y="3355920"/>
            <a:ext cx="0" cy="728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50960" y="3355920"/>
            <a:ext cx="0" cy="728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18080" y="4756320"/>
            <a:ext cx="0" cy="728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06800" y="4756320"/>
            <a:ext cx="0" cy="728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50960" y="4756320"/>
            <a:ext cx="0" cy="728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581280" y="1562040"/>
            <a:ext cx="2471760" cy="654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517360" y="3529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ran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72440" y="49309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rans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1730160" y="2944800"/>
            <a:ext cx="168120" cy="428760"/>
          </a:xfrm>
          <a:prstGeom prst="rect">
            <a:avLst/>
          </a:prstGeom>
          <a:solidFill>
            <a:srgbClr val="cc00cc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196080" y="3002760"/>
            <a:ext cx="168120" cy="312840"/>
          </a:xfrm>
          <a:prstGeom prst="rect">
            <a:avLst/>
          </a:prstGeom>
          <a:solidFill>
            <a:srgbClr val="cc00cc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4731480" y="3029760"/>
            <a:ext cx="168120" cy="258480"/>
          </a:xfrm>
          <a:prstGeom prst="rect">
            <a:avLst/>
          </a:prstGeom>
          <a:solidFill>
            <a:srgbClr val="cc00cc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6282720" y="2828880"/>
            <a:ext cx="168480" cy="657000"/>
          </a:xfrm>
          <a:prstGeom prst="rect">
            <a:avLst/>
          </a:prstGeom>
          <a:solidFill>
            <a:srgbClr val="cc00cc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33520" y="2230920"/>
            <a:ext cx="2343240" cy="182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31" y="32"/>
                </a:moveTo>
                <a:arcTo wR="10800" hR="10800" stAng="-5135349" swAng="4690764"/>
                <a:lnTo>
                  <a:pt x="10800" y="10800"/>
                </a:lnTo>
                <a:close/>
              </a:path>
              <a:path fill="none" w="21600" h="21600">
                <a:moveTo>
                  <a:pt x="11631" y="32"/>
                </a:moveTo>
                <a:arcTo wR="10800" hR="10800" stAng="-5135349" swAng="4690764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960080" y="2229840"/>
            <a:ext cx="2322720" cy="171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96" y="29"/>
                </a:moveTo>
                <a:arcTo wR="10800" hR="10800" stAng="-5146371" swAng="4904860"/>
                <a:lnTo>
                  <a:pt x="10800" y="10800"/>
                </a:lnTo>
                <a:close/>
              </a:path>
              <a:path fill="none" w="21600" h="21600">
                <a:moveTo>
                  <a:pt x="11596" y="29"/>
                </a:moveTo>
                <a:arcTo wR="10800" hR="10800" stAng="-5146371" swAng="4904860"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Any Questions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55" name="bd00028_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1055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Gene Expression Profi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he amounts of each type of  mRNA in a cell sample form a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gene expression prof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geneprofile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4892760" cy="3635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162920" y="3200400"/>
            <a:ext cx="2286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67840" y="3124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52360" y="36226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c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26400" y="640080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http://cgap.nci.nih.gov/Info/concept5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37339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Why study gene expressio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o characterize the gen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o understand the differences in gene usage between different types of tiss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o understand the differences between healthy and diseased cel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Canc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ypically classified based 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tissue it originated 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macroscopic featu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Hypothe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Cancers of the same type may be totally different at the gene expression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These differences can be detected through gene expression profile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Measuring Gene Expre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Microarr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Detect levels of known sequences on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EST seque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Get a slightly different portion of each mRNA each 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SAGE (Serial Analysis of Gene Express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The SAGE Metho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5280" y="5475240"/>
          <a:ext cx="1765440" cy="123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475240"/>
                    <a:ext cx="176544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438280" y="2133720"/>
            <a:ext cx="892440" cy="814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348080" y="2133720"/>
            <a:ext cx="833400" cy="844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324480" y="2133720"/>
            <a:ext cx="838440" cy="861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600200" y="3978360"/>
            <a:ext cx="882720" cy="89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2286000"/>
            <a:ext cx="0" cy="898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92680" y="3220920"/>
            <a:ext cx="14760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24520" y="2363760"/>
            <a:ext cx="0" cy="809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75200" y="3173400"/>
            <a:ext cx="1461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92240" y="3220920"/>
            <a:ext cx="147600" cy="142920"/>
          </a:xfrm>
          <a:prstGeom prst="ellipse">
            <a:avLst/>
          </a:prstGeom>
          <a:solidFill>
            <a:srgbClr val="22001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747800" y="3363840"/>
            <a:ext cx="293760" cy="709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90880" y="3363840"/>
            <a:ext cx="293400" cy="757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5238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2588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cer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286000"/>
            <a:ext cx="295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3252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cer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924520" y="2363760"/>
            <a:ext cx="324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549240" y="3360600"/>
            <a:ext cx="390600" cy="898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89520" y="3360600"/>
            <a:ext cx="342720" cy="898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532120" y="3316320"/>
            <a:ext cx="392040" cy="898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73840" y="3316320"/>
            <a:ext cx="342720" cy="898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5029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352680" y="5473800"/>
          <a:ext cx="1714680" cy="12301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5473800"/>
                    <a:ext cx="17146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403960" y="5475240"/>
          <a:ext cx="1568520" cy="123048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03960" y="5475240"/>
                    <a:ext cx="156852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3500280" y="3978360"/>
            <a:ext cx="882720" cy="89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3160" y="3932280"/>
            <a:ext cx="881280" cy="89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97120" y="4214880"/>
            <a:ext cx="47520" cy="9504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8480" y="4214880"/>
            <a:ext cx="49320" cy="9504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49520" y="4309920"/>
            <a:ext cx="4896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44640" y="4309920"/>
            <a:ext cx="4932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47800" y="4309920"/>
            <a:ext cx="4932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49520" y="4498920"/>
            <a:ext cx="4896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97120" y="4405320"/>
            <a:ext cx="47520" cy="936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7800" y="4498920"/>
            <a:ext cx="4932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8480" y="4405320"/>
            <a:ext cx="49320" cy="936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44640" y="4498920"/>
            <a:ext cx="4932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38480" y="4073400"/>
            <a:ext cx="48960" cy="9396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9840" y="4073400"/>
            <a:ext cx="47880" cy="9396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90880" y="4167360"/>
            <a:ext cx="48960" cy="9504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7440" y="4167360"/>
            <a:ext cx="47880" cy="9504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87720" y="4167360"/>
            <a:ext cx="50760" cy="9504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90880" y="4357800"/>
            <a:ext cx="48960" cy="936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38480" y="4262400"/>
            <a:ext cx="48960" cy="954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87720" y="4357800"/>
            <a:ext cx="50760" cy="936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39840" y="4262400"/>
            <a:ext cx="47880" cy="954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7440" y="4357800"/>
            <a:ext cx="47880" cy="936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90880" y="4546440"/>
            <a:ext cx="4896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92240" y="4546440"/>
            <a:ext cx="4932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43280" y="4641840"/>
            <a:ext cx="48960" cy="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9840" y="4641840"/>
            <a:ext cx="47880" cy="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4641840"/>
            <a:ext cx="49320" cy="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90880" y="4735440"/>
            <a:ext cx="4896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92240" y="4735440"/>
            <a:ext cx="4932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40280" y="4546440"/>
            <a:ext cx="4752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40200" y="4546440"/>
            <a:ext cx="4932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92680" y="4641840"/>
            <a:ext cx="47520" cy="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87800" y="4641840"/>
            <a:ext cx="49320" cy="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89520" y="4641840"/>
            <a:ext cx="50760" cy="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0280" y="4735440"/>
            <a:ext cx="4752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40200" y="4735440"/>
            <a:ext cx="4932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21360" y="4498920"/>
            <a:ext cx="4932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24520" y="4498920"/>
            <a:ext cx="49320" cy="954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75200" y="4594320"/>
            <a:ext cx="49320" cy="9504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70680" y="4594320"/>
            <a:ext cx="48960" cy="9504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73840" y="4594320"/>
            <a:ext cx="47520" cy="9504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21360" y="4689360"/>
            <a:ext cx="49320" cy="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24520" y="4689360"/>
            <a:ext cx="49320" cy="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45200" y="4214880"/>
            <a:ext cx="49320" cy="9504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4309920"/>
            <a:ext cx="49320" cy="954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94520" y="4309920"/>
            <a:ext cx="48960" cy="954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89520" y="4025880"/>
            <a:ext cx="50760" cy="954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92680" y="4025880"/>
            <a:ext cx="47520" cy="954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43360" y="4121280"/>
            <a:ext cx="49320" cy="936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40280" y="4121280"/>
            <a:ext cx="47520" cy="936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40200" y="4121280"/>
            <a:ext cx="49320" cy="936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4309920"/>
            <a:ext cx="49320" cy="954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89520" y="4214880"/>
            <a:ext cx="50760" cy="9504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40200" y="4309920"/>
            <a:ext cx="49320" cy="954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92680" y="4214880"/>
            <a:ext cx="47520" cy="9504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40280" y="4309920"/>
            <a:ext cx="47520" cy="954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87800" y="4025880"/>
            <a:ext cx="49320" cy="954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37120" y="4121280"/>
            <a:ext cx="48960" cy="936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87800" y="4214880"/>
            <a:ext cx="49320" cy="9504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92680" y="4405320"/>
            <a:ext cx="47520" cy="936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37120" y="4309920"/>
            <a:ext cx="48960" cy="954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89520" y="4405320"/>
            <a:ext cx="50760" cy="936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87800" y="4405320"/>
            <a:ext cx="49320" cy="93600"/>
          </a:xfrm>
          <a:prstGeom prst="rect">
            <a:avLst/>
          </a:prstGeom>
          <a:solidFill>
            <a:srgbClr val="0000ff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76920" y="4025880"/>
            <a:ext cx="4932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78640" y="4025880"/>
            <a:ext cx="4896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29320" y="4121280"/>
            <a:ext cx="49320" cy="936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26240" y="4121280"/>
            <a:ext cx="48960" cy="936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27600" y="4121280"/>
            <a:ext cx="49320" cy="936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29320" y="4309920"/>
            <a:ext cx="4932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76920" y="4214880"/>
            <a:ext cx="49320" cy="9504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27600" y="4309920"/>
            <a:ext cx="4932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78640" y="4214880"/>
            <a:ext cx="48960" cy="9504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26240" y="4309920"/>
            <a:ext cx="4896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75200" y="4025880"/>
            <a:ext cx="4932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24520" y="4121280"/>
            <a:ext cx="49320" cy="936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75200" y="4214880"/>
            <a:ext cx="49320" cy="9504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78640" y="4405320"/>
            <a:ext cx="48960" cy="936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24520" y="4309920"/>
            <a:ext cx="4932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76920" y="4405320"/>
            <a:ext cx="49320" cy="936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75200" y="4405320"/>
            <a:ext cx="49320" cy="936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46440" y="4262400"/>
            <a:ext cx="49320" cy="954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97120" y="4357800"/>
            <a:ext cx="49320" cy="936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95760" y="4357800"/>
            <a:ext cx="49320" cy="9360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46440" y="4451400"/>
            <a:ext cx="49320" cy="95040"/>
          </a:xfrm>
          <a:prstGeom prst="rect">
            <a:avLst/>
          </a:prstGeom>
          <a:solidFill>
            <a:srgbClr val="ff0000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71880" y="2374920"/>
            <a:ext cx="0" cy="809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71880" y="2374920"/>
            <a:ext cx="295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5029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5029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23:14:17Z</dcterms:created>
  <dc:creator>Monica Sleumer</dc:creator>
  <dc:description/>
  <dc:language>en-US</dc:language>
  <cp:lastModifiedBy>sleumer</cp:lastModifiedBy>
  <dcterms:modified xsi:type="dcterms:W3CDTF">2001-08-17T02:19:02Z</dcterms:modified>
  <cp:revision>82</cp:revision>
  <dc:subject/>
  <dc:title>Clustering SAGE Data</dc:title>
</cp:coreProperties>
</file>